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CE2-B835-49E3-A322-66ACBD8B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9DF-17A3-4356-8270-67F6CDD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46F-F47A-4C19-8560-E0E12E8E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8E5-02A6-4082-ABA7-D25786CC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B1A-094E-41CB-8B06-73EDBA2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C9A-F9C0-4767-89BC-D21B9B21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7B8-E6D4-4332-A3F1-E723254B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34A-F318-4354-91A8-58CDB82B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BE4-D535-407F-873A-EF082DD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B40-C06E-4F5A-8762-E0C7534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375-3ADF-4C84-BDB0-A6B1C89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DE7-6992-4FBB-ACFD-3E74CA8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A3CF-1EBC-4AAA-B20F-52931EA7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mapsonline.com/UnivHist/30335_6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yno.edu/~seduffy/MapImages/Austria-Hungary1867-display.jpg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3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sumption.edu/users/mcclymer/His130/P-H/burden/mapimperialismafrica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ome.uchicago.edu/~vfalbrit/wckeywords_clip_image002_0002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alyze the causes of World Wa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are some holidays where people celebrate pride in their national heri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295360"/>
            <a:ext cx="6399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rcRect l="0" t="9904" r="6483" b="16002"/>
          <a:stretch/>
        </p:blipFill>
        <p:spPr>
          <a:xfrm>
            <a:off x="1450800" y="762120"/>
            <a:ext cx="7693200" cy="609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5601" t="72015" r="74094" b="16002"/>
          <a:stretch/>
        </p:blipFill>
        <p:spPr>
          <a:xfrm>
            <a:off x="1447920" y="5030640"/>
            <a:ext cx="3098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58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84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5116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900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0"/>
            <a:ext cx="735804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1752480"/>
            <a:ext cx="685800" cy="213372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438280" cy="1800360"/>
          </a:xfrm>
          <a:prstGeom prst="rect">
            <a:avLst/>
          </a:prstGeom>
          <a:solidFill>
            <a:srgbClr val="ddd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ialism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uropean conquest of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23623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447920" y="762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Total Defense Expenditures for the Great Powers [Ger., A-H, It., Fr., Br., Rus.] </a:t>
            </a:r>
            <a:br>
              <a:rPr sz="2800"/>
            </a:b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in millions of £s (British poun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rcRect l="0" t="0" r="0" b="8820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5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6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7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2276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bdoe</cp:lastModifiedBy>
  <dcterms:modified xsi:type="dcterms:W3CDTF">2009-11-10T19:29:39Z</dcterms:modified>
  <cp:revision>48</cp:revision>
  <dc:subject/>
  <dc:title>Slide 1</dc:title>
</cp:coreProperties>
</file>