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3.png" ContentType="image/png"/>
  <Override PartName="/ppt/media/image33.png" ContentType="image/png"/>
  <Override PartName="/ppt/media/image8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0C13-70EE-486E-B84F-2224C4075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8807-7CC4-4F52-9827-B9AA9F603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07E6-DFAD-4738-AFFC-9831A6787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E326-60ED-4252-B6B9-C9911E7B0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89B7-4C27-44BA-B3BA-A10083FA2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7A2D-7F4A-466E-9226-5B6031023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7DE6-83D4-44DC-B1B5-92BA04DD3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9966-5CD2-42C2-AD3C-A637377A7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944E-5647-47D6-A97F-1BB26E05E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F2F9-E23B-416C-8ACF-56FAA2FB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25A4-564C-4F46-929C-D24712F4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665A-385D-4936-9863-4E87B8FF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39B96-0625-4AD6-8BB9-847BBD8B30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vtc.gov/lotw/months/december/images/SlavicLanguagesMap.jpg" TargetMode="External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orldmapsonline.com/UnivHist/30335_6.gif" TargetMode="External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loyno.edu/~seduffy/MapImages/Austria-Hungary1867-display.jpg" TargetMode="External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irstworldwar.com/origins/causes.htm" TargetMode="External"/><Relationship Id="rId3" Type="http://schemas.openxmlformats.org/officeDocument/2006/relationships/hyperlink" Target="http://www.historyonthenet.com/WW1/causes.htm#Militarism" TargetMode="External"/><Relationship Id="rId4" Type="http://schemas.openxmlformats.org/officeDocument/2006/relationships/hyperlink" Target="http://www.historyonthenet.com/WW1/causes.htm#Militarism" TargetMode="External"/><Relationship Id="rId5" Type="http://schemas.openxmlformats.org/officeDocument/2006/relationships/hyperlink" Target="http://www.historyonthenet.com/WW1/causes.htm#Alliances" TargetMode="External"/><Relationship Id="rId6" Type="http://schemas.openxmlformats.org/officeDocument/2006/relationships/hyperlink" Target="http://www.historyonthenet.com/WW1/causes.htm#Nationalism" TargetMode="External"/><Relationship Id="rId7" Type="http://schemas.openxmlformats.org/officeDocument/2006/relationships/hyperlink" Target="http://www.historyonthenet.com/WW1/causes.htm#Imperialism" TargetMode="External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33.png"/><Relationship Id="rId7" Type="http://schemas.openxmlformats.org/officeDocument/2006/relationships/image" Target="../media/image9.png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ssumption.edu/users/mcclymer/His130/P-H/burden/mapimperialismafrica.jpg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home.uchicago.edu/~vfalbrit/wckeywords_clip_image002_0002.jpg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image" Target="../media/image1.jpeg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itt.edu/~dash/northlinks.html#austria" TargetMode="External"/><Relationship Id="rId3" Type="http://schemas.openxmlformats.org/officeDocument/2006/relationships/hyperlink" Target="http://www.pitt.edu/~dash/northlinks.html#belgium" TargetMode="External"/><Relationship Id="rId4" Type="http://schemas.openxmlformats.org/officeDocument/2006/relationships/hyperlink" Target="http://www.pitt.edu/~dash/northlinks.html#denmark" TargetMode="External"/><Relationship Id="rId5" Type="http://schemas.openxmlformats.org/officeDocument/2006/relationships/hyperlink" Target="http://www.pitt.edu/~dash/northlinks.html#iceland" TargetMode="External"/><Relationship Id="rId6" Type="http://schemas.openxmlformats.org/officeDocument/2006/relationships/hyperlink" Target="http://www.pitt.edu/~dash/northlinks.html#germany" TargetMode="External"/><Relationship Id="rId7" Type="http://schemas.openxmlformats.org/officeDocument/2006/relationships/hyperlink" Target="http://www.pitt.edu/~dash/northlinks.html#liechtenstein" TargetMode="External"/><Relationship Id="rId8" Type="http://schemas.openxmlformats.org/officeDocument/2006/relationships/hyperlink" Target="http://www.pitt.edu/~dash/northlinks.html#luxembourg" TargetMode="External"/><Relationship Id="rId9" Type="http://schemas.openxmlformats.org/officeDocument/2006/relationships/hyperlink" Target="http://www.pitt.edu/~dash/northlinks.html#netherlands" TargetMode="External"/><Relationship Id="rId10" Type="http://schemas.openxmlformats.org/officeDocument/2006/relationships/hyperlink" Target="http://www.pitt.edu/~dash/northlinks.html#norway" TargetMode="External"/><Relationship Id="rId11" Type="http://schemas.openxmlformats.org/officeDocument/2006/relationships/hyperlink" Target="http://www.pitt.edu/~dash/northlinks.html#sweden" TargetMode="External"/><Relationship Id="rId12" Type="http://schemas.openxmlformats.org/officeDocument/2006/relationships/hyperlink" Target="http://www.pitt.edu/~dash/northlinks.html#switzerland" TargetMode="External"/><Relationship Id="rId13" Type="http://schemas.openxmlformats.org/officeDocument/2006/relationships/hyperlink" Target="http://www.pitt.edu/~dash/northlinks.html#unitedkingdom" TargetMode="External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image" Target="../media/image17.png"/><Relationship Id="rId20" Type="http://schemas.openxmlformats.org/officeDocument/2006/relationships/image" Target="../media/image18.png"/><Relationship Id="rId21" Type="http://schemas.openxmlformats.org/officeDocument/2006/relationships/image" Target="../media/image19.png"/><Relationship Id="rId22" Type="http://schemas.openxmlformats.org/officeDocument/2006/relationships/image" Target="../media/image20.png"/><Relationship Id="rId23" Type="http://schemas.openxmlformats.org/officeDocument/2006/relationships/image" Target="../media/image21.png"/><Relationship Id="rId24" Type="http://schemas.openxmlformats.org/officeDocument/2006/relationships/image" Target="../media/image22.png"/><Relationship Id="rId25" Type="http://schemas.openxmlformats.org/officeDocument/2006/relationships/image" Target="../media/image23.png"/><Relationship Id="rId2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algal.com/graphics/PUR/Eurethnic.jpg" TargetMode="External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7920" y="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iv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analyze the causes of World War 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914400"/>
            <a:ext cx="7696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 Now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at are some holidays where people celebrate pride in their national herita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0" r="84169" b="0"/>
          <a:stretch/>
        </p:blipFill>
        <p:spPr>
          <a:xfrm>
            <a:off x="0" y="0"/>
            <a:ext cx="144792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057400" y="2295360"/>
            <a:ext cx="639936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rcRect l="0" t="0" r="84169" b="0"/>
          <a:stretch/>
        </p:blipFill>
        <p:spPr>
          <a:xfrm>
            <a:off x="0" y="0"/>
            <a:ext cx="144792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523880" y="0"/>
            <a:ext cx="76201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Pooh"/>
              </a:rPr>
              <a:t>Causes of WWI</a:t>
            </a:r>
            <a:r>
              <a:rPr b="1" lang="en-US" sz="4400" spc="-1" strike="noStrike">
                <a:solidFill>
                  <a:srgbClr val="003366"/>
                </a:solidFill>
                <a:latin typeface="Pooh"/>
              </a:rPr>
              <a:t> -</a:t>
            </a:r>
            <a:r>
              <a:rPr b="1" lang="en-US" sz="4400" spc="-1" strike="noStrike">
                <a:solidFill>
                  <a:srgbClr val="009900"/>
                </a:solidFill>
                <a:latin typeface="Pooh"/>
              </a:rPr>
              <a:t> </a:t>
            </a:r>
            <a:r>
              <a:rPr b="1" lang="en-US" sz="4800" spc="-1" strike="noStrike">
                <a:solidFill>
                  <a:srgbClr val="333399"/>
                </a:solidFill>
                <a:latin typeface="Pooh"/>
              </a:rPr>
              <a:t>N</a:t>
            </a:r>
            <a:r>
              <a:rPr b="0" lang="en-US" sz="3600" spc="-1" strike="noStrike">
                <a:solidFill>
                  <a:srgbClr val="333399"/>
                </a:solidFill>
                <a:latin typeface="Pooh"/>
              </a:rPr>
              <a:t>ationa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447920" y="99072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an-Slavism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 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ement to unify all of the Slavic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81080" y="2106720"/>
            <a:ext cx="639936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rcRect l="0" t="0" r="84169" b="0"/>
          <a:stretch/>
        </p:blipFill>
        <p:spPr>
          <a:xfrm>
            <a:off x="0" y="0"/>
            <a:ext cx="144792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523880" y="0"/>
            <a:ext cx="76201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Pooh"/>
              </a:rPr>
              <a:t>Causes of WWI</a:t>
            </a:r>
            <a:r>
              <a:rPr b="1" lang="en-US" sz="4400" spc="-1" strike="noStrike">
                <a:solidFill>
                  <a:srgbClr val="003366"/>
                </a:solidFill>
                <a:latin typeface="Pooh"/>
              </a:rPr>
              <a:t> -</a:t>
            </a:r>
            <a:r>
              <a:rPr b="1" lang="en-US" sz="4400" spc="-1" strike="noStrike">
                <a:solidFill>
                  <a:srgbClr val="009900"/>
                </a:solidFill>
                <a:latin typeface="Pooh"/>
              </a:rPr>
              <a:t> </a:t>
            </a:r>
            <a:r>
              <a:rPr b="1" lang="en-US" sz="4800" spc="-1" strike="noStrike">
                <a:solidFill>
                  <a:srgbClr val="cc0066"/>
                </a:solidFill>
                <a:latin typeface="Pooh"/>
              </a:rPr>
              <a:t>I</a:t>
            </a:r>
            <a:r>
              <a:rPr b="0" lang="en-US" sz="3600" spc="-1" strike="noStrike">
                <a:solidFill>
                  <a:srgbClr val="cc0066"/>
                </a:solidFill>
                <a:latin typeface="Pooh"/>
              </a:rPr>
              <a:t>mperia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>
            <a:hlinkClick r:id="rId2"/>
          </p:cNvPr>
          <p:cNvPicPr/>
          <p:nvPr/>
        </p:nvPicPr>
        <p:blipFill>
          <a:blip r:embed="rId3"/>
          <a:srcRect l="0" t="9904" r="6483" b="16002"/>
          <a:stretch/>
        </p:blipFill>
        <p:spPr>
          <a:xfrm>
            <a:off x="1450800" y="762120"/>
            <a:ext cx="7693200" cy="6095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rcRect l="5601" t="72015" r="74094" b="16002"/>
          <a:stretch/>
        </p:blipFill>
        <p:spPr>
          <a:xfrm>
            <a:off x="1447920" y="5030640"/>
            <a:ext cx="309852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0" t="0" r="84169" b="0"/>
          <a:stretch/>
        </p:blipFill>
        <p:spPr>
          <a:xfrm>
            <a:off x="0" y="0"/>
            <a:ext cx="1447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523880" y="0"/>
            <a:ext cx="76201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Pooh"/>
              </a:rPr>
              <a:t>Causes of WWI</a:t>
            </a:r>
            <a:r>
              <a:rPr b="1" lang="en-US" sz="4400" spc="-1" strike="noStrike">
                <a:solidFill>
                  <a:srgbClr val="003366"/>
                </a:solidFill>
                <a:latin typeface="Pooh"/>
              </a:rPr>
              <a:t> -</a:t>
            </a:r>
            <a:r>
              <a:rPr b="1" lang="en-US" sz="4400" spc="-1" strike="noStrike">
                <a:solidFill>
                  <a:srgbClr val="009900"/>
                </a:solidFill>
                <a:latin typeface="Pooh"/>
              </a:rPr>
              <a:t> </a:t>
            </a:r>
            <a:r>
              <a:rPr b="1" lang="en-US" sz="4800" spc="-1" strike="noStrike">
                <a:solidFill>
                  <a:srgbClr val="cc0066"/>
                </a:solidFill>
                <a:latin typeface="Pooh"/>
              </a:rPr>
              <a:t>I</a:t>
            </a:r>
            <a:r>
              <a:rPr b="0" lang="en-US" sz="3600" spc="-1" strike="noStrike">
                <a:solidFill>
                  <a:srgbClr val="cc0066"/>
                </a:solidFill>
                <a:latin typeface="Pooh"/>
              </a:rPr>
              <a:t>mperia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>
            <a:hlinkClick r:id="rId2"/>
          </p:cNvPr>
          <p:cNvPicPr/>
          <p:nvPr/>
        </p:nvPicPr>
        <p:blipFill>
          <a:blip r:embed="rId3"/>
          <a:srcRect l="0" t="20472" r="0" b="24662"/>
          <a:stretch/>
        </p:blipFill>
        <p:spPr>
          <a:xfrm>
            <a:off x="1447920" y="1066680"/>
            <a:ext cx="7696080" cy="51055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rcRect l="63370" t="1639" r="4952" b="80350"/>
          <a:stretch/>
        </p:blipFill>
        <p:spPr>
          <a:xfrm>
            <a:off x="1447920" y="5181480"/>
            <a:ext cx="24382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67080" y="761760"/>
            <a:ext cx="4648320" cy="5181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9800" spc="-1" strike="noStrike">
                <a:solidFill>
                  <a:srgbClr val="333399"/>
                </a:solidFill>
                <a:latin typeface="Lombardic Narrow"/>
              </a:rPr>
              <a:t>The</a:t>
            </a:r>
            <a:br>
              <a:rPr sz="9800"/>
            </a:br>
            <a:br>
              <a:rPr sz="9800"/>
            </a:br>
            <a:r>
              <a:rPr b="0" lang="en-US" sz="9800" spc="-1" strike="noStrike">
                <a:solidFill>
                  <a:srgbClr val="333399"/>
                </a:solidFill>
                <a:latin typeface="Lombardic Narrow"/>
              </a:rPr>
              <a:t>“Spark”</a:t>
            </a:r>
            <a:endParaRPr b="0" lang="en-US" sz="9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rcRect l="0" t="0" r="84169" b="0"/>
          <a:stretch/>
        </p:blipFill>
        <p:spPr>
          <a:xfrm>
            <a:off x="0" y="0"/>
            <a:ext cx="144792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523880" y="0"/>
            <a:ext cx="76201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Pooh"/>
              </a:rPr>
              <a:t>Causes of WWI</a:t>
            </a:r>
            <a:r>
              <a:rPr b="1" lang="en-US" sz="4400" spc="-1" strike="noStrike">
                <a:solidFill>
                  <a:srgbClr val="003366"/>
                </a:solidFill>
                <a:latin typeface="Pooh"/>
              </a:rPr>
              <a:t> -</a:t>
            </a:r>
            <a:r>
              <a:rPr b="1" lang="en-US" sz="4400" spc="-1" strike="noStrike">
                <a:solidFill>
                  <a:srgbClr val="009900"/>
                </a:solidFill>
                <a:latin typeface="Pooh"/>
              </a:rPr>
              <a:t> </a:t>
            </a:r>
            <a:r>
              <a:rPr b="1" lang="en-US" sz="4800" spc="-1" strike="noStrike">
                <a:solidFill>
                  <a:srgbClr val="663300"/>
                </a:solidFill>
                <a:latin typeface="Pooh"/>
              </a:rPr>
              <a:t>A</a:t>
            </a:r>
            <a:r>
              <a:rPr b="0" lang="en-US" sz="3600" spc="-1" strike="noStrike">
                <a:solidFill>
                  <a:srgbClr val="663300"/>
                </a:solidFill>
                <a:latin typeface="Pooh"/>
              </a:rPr>
              <a:t>ssassi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743200" y="914400"/>
            <a:ext cx="5484960" cy="48816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447920" y="591192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rchduke Franz Ferdinand and Duchess Sophie at Sarajevo, Bosnia, on June 28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, 191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rcRect l="0" t="0" r="84169" b="0"/>
          <a:stretch/>
        </p:blipFill>
        <p:spPr>
          <a:xfrm>
            <a:off x="0" y="0"/>
            <a:ext cx="144792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523880" y="0"/>
            <a:ext cx="76201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Pooh"/>
              </a:rPr>
              <a:t>Causes of WWI</a:t>
            </a:r>
            <a:r>
              <a:rPr b="1" lang="en-US" sz="4400" spc="-1" strike="noStrike">
                <a:solidFill>
                  <a:srgbClr val="003366"/>
                </a:solidFill>
                <a:latin typeface="Pooh"/>
              </a:rPr>
              <a:t> -</a:t>
            </a:r>
            <a:r>
              <a:rPr b="1" lang="en-US" sz="4400" spc="-1" strike="noStrike">
                <a:solidFill>
                  <a:srgbClr val="009900"/>
                </a:solidFill>
                <a:latin typeface="Pooh"/>
              </a:rPr>
              <a:t> </a:t>
            </a:r>
            <a:r>
              <a:rPr b="1" lang="en-US" sz="4800" spc="-1" strike="noStrike">
                <a:solidFill>
                  <a:srgbClr val="663300"/>
                </a:solidFill>
                <a:latin typeface="Pooh"/>
              </a:rPr>
              <a:t>A</a:t>
            </a:r>
            <a:r>
              <a:rPr b="0" lang="en-US" sz="3600" spc="-1" strike="noStrike">
                <a:solidFill>
                  <a:srgbClr val="663300"/>
                </a:solidFill>
                <a:latin typeface="Pooh"/>
              </a:rPr>
              <a:t>ssassi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rcRect l="0" t="20472" r="0" b="24662"/>
          <a:stretch/>
        </p:blipFill>
        <p:spPr>
          <a:xfrm>
            <a:off x="1447920" y="1066680"/>
            <a:ext cx="7696080" cy="51055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rcRect l="63370" t="1639" r="4952" b="80350"/>
          <a:stretch/>
        </p:blipFill>
        <p:spPr>
          <a:xfrm>
            <a:off x="1447920" y="5181480"/>
            <a:ext cx="2438280" cy="16765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rcRect l="11240" t="0" r="17111" b="0"/>
          <a:stretch/>
        </p:blipFill>
        <p:spPr>
          <a:xfrm>
            <a:off x="4648320" y="2057400"/>
            <a:ext cx="612720" cy="9190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572000" y="2819520"/>
            <a:ext cx="990720" cy="26668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3.98844E-006 L 0.10816 0.42151 E">
                                      <p:cBhvr>
                                        <p:cTn id="158" dur="3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3505320" y="1143000"/>
            <a:ext cx="5638680" cy="538812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  <p:pic>
        <p:nvPicPr>
          <p:cNvPr id="152" name="" descr=""/>
          <p:cNvPicPr/>
          <p:nvPr/>
        </p:nvPicPr>
        <p:blipFill>
          <a:blip r:embed="rId2"/>
          <a:srcRect l="0" t="0" r="84169" b="0"/>
          <a:stretch/>
        </p:blipFill>
        <p:spPr>
          <a:xfrm>
            <a:off x="0" y="0"/>
            <a:ext cx="144792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523880" y="0"/>
            <a:ext cx="76201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Pooh"/>
              </a:rPr>
              <a:t>Causes of WWI</a:t>
            </a:r>
            <a:r>
              <a:rPr b="1" lang="en-US" sz="4400" spc="-1" strike="noStrike">
                <a:solidFill>
                  <a:srgbClr val="003366"/>
                </a:solidFill>
                <a:latin typeface="Pooh"/>
              </a:rPr>
              <a:t> -</a:t>
            </a:r>
            <a:r>
              <a:rPr b="1" lang="en-US" sz="4400" spc="-1" strike="noStrike">
                <a:solidFill>
                  <a:srgbClr val="009900"/>
                </a:solidFill>
                <a:latin typeface="Pooh"/>
              </a:rPr>
              <a:t> </a:t>
            </a:r>
            <a:r>
              <a:rPr b="1" lang="en-US" sz="4800" spc="-1" strike="noStrike">
                <a:solidFill>
                  <a:srgbClr val="663300"/>
                </a:solidFill>
                <a:latin typeface="Pooh"/>
              </a:rPr>
              <a:t>A</a:t>
            </a:r>
            <a:r>
              <a:rPr b="0" lang="en-US" sz="3600" spc="-1" strike="noStrike">
                <a:solidFill>
                  <a:srgbClr val="663300"/>
                </a:solidFill>
                <a:latin typeface="Pooh"/>
              </a:rPr>
              <a:t>ssassi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990720"/>
            <a:ext cx="2133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ustrian Archduke Franz Ferdinand was killed in Bosnia by a Serbian nationalist who believed that Bosnia should belong to Serb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rcRect l="4385" t="4107" r="2444" b="10959"/>
          <a:stretch/>
        </p:blipFill>
        <p:spPr>
          <a:xfrm>
            <a:off x="1447920" y="1584360"/>
            <a:ext cx="4114800" cy="329256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  <p:pic>
        <p:nvPicPr>
          <p:cNvPr id="156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6019920" y="3809880"/>
            <a:ext cx="3124080" cy="304812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  <p:sp>
        <p:nvSpPr>
          <p:cNvPr id="157" name=""/>
          <p:cNvSpPr/>
          <p:nvPr/>
        </p:nvSpPr>
        <p:spPr>
          <a:xfrm>
            <a:off x="4876920" y="2895480"/>
            <a:ext cx="1904760" cy="1905120"/>
          </a:xfrm>
          <a:prstGeom prst="line">
            <a:avLst/>
          </a:prstGeom>
          <a:ln cap="sq" w="57240">
            <a:solidFill>
              <a:srgbClr val="e61f0a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rcRect l="0" t="0" r="84169" b="0"/>
          <a:stretch/>
        </p:blipFill>
        <p:spPr>
          <a:xfrm>
            <a:off x="0" y="0"/>
            <a:ext cx="144792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523880" y="0"/>
            <a:ext cx="76201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Pooh"/>
              </a:rPr>
              <a:t>Causes of WWI</a:t>
            </a:r>
            <a:r>
              <a:rPr b="1" lang="en-US" sz="4400" spc="-1" strike="noStrike">
                <a:solidFill>
                  <a:srgbClr val="003366"/>
                </a:solidFill>
                <a:latin typeface="Pooh"/>
              </a:rPr>
              <a:t> -</a:t>
            </a:r>
            <a:r>
              <a:rPr b="1" lang="en-US" sz="4400" spc="-1" strike="noStrike">
                <a:solidFill>
                  <a:srgbClr val="009900"/>
                </a:solidFill>
                <a:latin typeface="Pooh"/>
              </a:rPr>
              <a:t> </a:t>
            </a:r>
            <a:r>
              <a:rPr b="1" lang="en-US" sz="4800" spc="-1" strike="noStrike">
                <a:solidFill>
                  <a:srgbClr val="663300"/>
                </a:solidFill>
                <a:latin typeface="Pooh"/>
              </a:rPr>
              <a:t>A</a:t>
            </a:r>
            <a:r>
              <a:rPr b="0" lang="en-US" sz="3600" spc="-1" strike="noStrike">
                <a:solidFill>
                  <a:srgbClr val="663300"/>
                </a:solidFill>
                <a:latin typeface="Pooh"/>
              </a:rPr>
              <a:t>ssassi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715000" y="1600200"/>
            <a:ext cx="3429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avrilo Princip after his assassination of Austrian Archduke Franz Ferdin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rcRect l="0" t="0" r="84169" b="0"/>
          <a:stretch/>
        </p:blipFill>
        <p:spPr>
          <a:xfrm>
            <a:off x="0" y="0"/>
            <a:ext cx="144792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447920" y="0"/>
            <a:ext cx="769608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Maiandra GD"/>
              </a:rPr>
              <a:t>The Point of No Return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The Assassination of Archduke Franz Ferdin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447920" y="106668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447920" y="129492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stria blamed Serbia for Ferdinand’s death and declared war on Serb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2362320"/>
            <a:ext cx="304920" cy="533160"/>
          </a:xfrm>
          <a:prstGeom prst="downArrow">
            <a:avLst>
              <a:gd name="adj1" fmla="val 50000"/>
              <a:gd name="adj2" fmla="val 4371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47920" y="2819520"/>
            <a:ext cx="7696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many pledged their support for Austria -Hungary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· example of Pan-German nationalis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00600" y="426708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87692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ssia pledged their support for Serbia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· example of Pan-Slavic nationalis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800600" y="586728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rcRect l="0" t="0" r="84169" b="0"/>
          <a:stretch/>
        </p:blipFill>
        <p:spPr>
          <a:xfrm>
            <a:off x="0" y="0"/>
            <a:ext cx="144792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447920" y="0"/>
            <a:ext cx="769608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Maiandra GD"/>
              </a:rPr>
              <a:t>The Point of No Return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The Assassination of Archduke Franz Ferdin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447920" y="13716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many declares war on Russ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47920" y="106668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05520" y="2057400"/>
            <a:ext cx="304560" cy="533520"/>
          </a:xfrm>
          <a:prstGeom prst="downArrow">
            <a:avLst>
              <a:gd name="adj1" fmla="val 50000"/>
              <a:gd name="adj2" fmla="val 4379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6840" y="2513880"/>
            <a:ext cx="591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nce pledges their support for Russia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51160" y="3656880"/>
            <a:ext cx="502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many declares war on Franc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449000" y="4723560"/>
            <a:ext cx="720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many invades Belgium on the way to Franc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3200400"/>
            <a:ext cx="304560" cy="533520"/>
          </a:xfrm>
          <a:prstGeom prst="downArrow">
            <a:avLst>
              <a:gd name="adj1" fmla="val 50000"/>
              <a:gd name="adj2" fmla="val 4379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105520" y="4267080"/>
            <a:ext cx="304560" cy="533520"/>
          </a:xfrm>
          <a:prstGeom prst="downArrow">
            <a:avLst>
              <a:gd name="adj1" fmla="val 50000"/>
              <a:gd name="adj2" fmla="val 4379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105520" y="5410080"/>
            <a:ext cx="304560" cy="533520"/>
          </a:xfrm>
          <a:prstGeom prst="downArrow">
            <a:avLst>
              <a:gd name="adj1" fmla="val 50000"/>
              <a:gd name="adj2" fmla="val 4379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033640" y="38239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447920" y="591156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eat Britain supports Belgium and declares war on Germany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84169" b="0"/>
          <a:stretch/>
        </p:blipFill>
        <p:spPr>
          <a:xfrm>
            <a:off x="0" y="0"/>
            <a:ext cx="14479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447920" y="0"/>
            <a:ext cx="61722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Pooh"/>
                <a:hlinkClick r:id="rId2"/>
              </a:rPr>
              <a:t>Causes of World War I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Pooh"/>
              </a:rPr>
              <a:t>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47920" y="736560"/>
            <a:ext cx="609480" cy="55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Pooh"/>
              </a:rPr>
              <a:t>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Pooh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Pooh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Pooh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83808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ilitarism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– policy of building up strong military forces to prepare for w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205704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lliance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eements between nations to aid and protect one anoth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32760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ationalis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pride in or devotion to one’s count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76520" y="449532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mperialis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 when one country takes over another country economically and polit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43800" y="0"/>
            <a:ext cx="160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Pooh"/>
              </a:rPr>
              <a:t>M</a:t>
            </a:r>
            <a:r>
              <a:rPr b="1" lang="en-US" sz="3200" spc="-1" strike="noStrike">
                <a:solidFill>
                  <a:srgbClr val="006600"/>
                </a:solidFill>
                <a:latin typeface="Pooh"/>
              </a:rPr>
              <a:t>A</a:t>
            </a:r>
            <a:r>
              <a:rPr b="1" lang="en-US" sz="3200" spc="-1" strike="noStrike">
                <a:solidFill>
                  <a:srgbClr val="0000cc"/>
                </a:solidFill>
                <a:latin typeface="Pooh"/>
              </a:rPr>
              <a:t>N</a:t>
            </a:r>
            <a:r>
              <a:rPr b="1" lang="en-US" sz="3200" spc="-1" strike="noStrike">
                <a:solidFill>
                  <a:srgbClr val="cc0066"/>
                </a:solidFill>
                <a:latin typeface="Pooh"/>
              </a:rPr>
              <a:t>I</a:t>
            </a:r>
            <a:r>
              <a:rPr b="1" lang="en-US" sz="3200" spc="-1" strike="noStrike">
                <a:solidFill>
                  <a:srgbClr val="663300"/>
                </a:solidFill>
                <a:latin typeface="Pooh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676520" y="2590920"/>
            <a:ext cx="1719000" cy="11458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1676520" y="4191120"/>
            <a:ext cx="1714320" cy="1143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1752480" y="1066680"/>
            <a:ext cx="1746360" cy="11415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4"/>
          <a:srcRect l="1617" t="0" r="1617" b="0"/>
          <a:stretch/>
        </p:blipFill>
        <p:spPr>
          <a:xfrm>
            <a:off x="6705720" y="2590920"/>
            <a:ext cx="166824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5"/>
          <a:stretch/>
        </p:blipFill>
        <p:spPr>
          <a:xfrm>
            <a:off x="6705720" y="914400"/>
            <a:ext cx="1747800" cy="1143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886200" y="1676520"/>
            <a:ext cx="2438280" cy="2895480"/>
          </a:xfrm>
          <a:prstGeom prst="irregularSeal1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8100000"/>
          </a:gradFill>
          <a:ln cap="sq" w="12600">
            <a:solidFill>
              <a:srgbClr val="000000"/>
            </a:solidFill>
            <a:miter/>
          </a:ln>
          <a:effectLst>
            <a:outerShdw dist="89808" dir="4916091" blurRad="0" rotWithShape="0">
              <a:srgbClr val="99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World War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19320" y="0"/>
            <a:ext cx="3124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61f0a"/>
                </a:solidFill>
                <a:uFillTx/>
                <a:latin typeface="Comic Sans MS"/>
              </a:rPr>
              <a:t>Allied Powers</a:t>
            </a:r>
            <a:r>
              <a:rPr b="0" lang="en-US" sz="2800" spc="-1" strike="noStrike">
                <a:solidFill>
                  <a:srgbClr val="e61f0a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0"/>
            <a:ext cx="2819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cc00"/>
                </a:solidFill>
                <a:uFillTx/>
                <a:latin typeface="Comic Sans MS"/>
              </a:rPr>
              <a:t>Central Powers</a:t>
            </a:r>
            <a:r>
              <a:rPr b="0" lang="en-US" sz="2800" spc="-1" strike="noStrike">
                <a:solidFill>
                  <a:srgbClr val="99cc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6705720" y="4114800"/>
            <a:ext cx="1725480" cy="11430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7"/>
          <a:srcRect l="2756" t="4132" r="2756" b="5313"/>
          <a:stretch/>
        </p:blipFill>
        <p:spPr>
          <a:xfrm>
            <a:off x="6705720" y="5715000"/>
            <a:ext cx="1747800" cy="11430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8"/>
          <a:srcRect l="0" t="0" r="84169" b="0"/>
          <a:stretch/>
        </p:blipFill>
        <p:spPr>
          <a:xfrm>
            <a:off x="0" y="0"/>
            <a:ext cx="144792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600200" y="6094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eat Bri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21337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676520" y="373392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s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553080" y="52578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a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553080" y="4572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324480" y="21337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stria-Hung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324480" y="36576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toman Emp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581280" y="3124080"/>
            <a:ext cx="304920" cy="0"/>
          </a:xfrm>
          <a:prstGeom prst="line">
            <a:avLst/>
          </a:prstGeom>
          <a:ln cap="sq" w="38160">
            <a:solidFill>
              <a:srgbClr val="e61f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477120" y="1523880"/>
            <a:ext cx="0" cy="4800600"/>
          </a:xfrm>
          <a:prstGeom prst="line">
            <a:avLst/>
          </a:prstGeom>
          <a:ln cap="sq"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6171840" y="3124080"/>
            <a:ext cx="304920" cy="0"/>
          </a:xfrm>
          <a:prstGeom prst="line">
            <a:avLst/>
          </a:prstGeom>
          <a:ln cap="sq"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81280" y="1295280"/>
            <a:ext cx="0" cy="3657600"/>
          </a:xfrm>
          <a:prstGeom prst="line">
            <a:avLst/>
          </a:prstGeom>
          <a:ln cap="sq"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77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7" dur="770" fill="hold"/>
                                        <p:tgtEl>
                                          <p:spTgt spid="1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9" dur="77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1" dur="77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85960" y="0"/>
            <a:ext cx="7358040" cy="6854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752480" y="1752480"/>
            <a:ext cx="685800" cy="2133720"/>
          </a:xfrm>
          <a:prstGeom prst="rect">
            <a:avLst/>
          </a:prstGeom>
          <a:solidFill>
            <a:srgbClr val="ddd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rcRect l="0" t="0" r="84169" b="0"/>
          <a:stretch/>
        </p:blipFill>
        <p:spPr>
          <a:xfrm>
            <a:off x="0" y="0"/>
            <a:ext cx="144792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0"/>
            <a:ext cx="2438280" cy="1800360"/>
          </a:xfrm>
          <a:prstGeom prst="rect">
            <a:avLst/>
          </a:prstGeom>
          <a:solidFill>
            <a:srgbClr val="ddd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mperialism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European conquest of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447920" y="3843360"/>
          <a:ext cx="7695720" cy="3014640"/>
        </p:xfrm>
        <a:graphic>
          <a:graphicData uri="http://schemas.openxmlformats.org/drawingml/2006/table">
            <a:tbl>
              <a:tblPr/>
              <a:tblGrid>
                <a:gridCol w="2308680"/>
                <a:gridCol w="53870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61f0a"/>
                          </a:solidFill>
                          <a:latin typeface="Comic Sans MS"/>
                        </a:rPr>
                        <a:t>1910-1914 Increase in Defense Expenditu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r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rit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uss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erman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>
            <a:off x="1523880" y="0"/>
            <a:ext cx="76201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Pooh"/>
              </a:rPr>
              <a:t>Causes of WWI</a:t>
            </a:r>
            <a:r>
              <a:rPr b="1" lang="en-US" sz="4400" spc="-1" strike="noStrike">
                <a:solidFill>
                  <a:srgbClr val="003366"/>
                </a:solidFill>
                <a:latin typeface="Pooh"/>
              </a:rPr>
              <a:t> -</a:t>
            </a:r>
            <a:r>
              <a:rPr b="1" lang="en-US" sz="4400" spc="-1" strike="noStrike">
                <a:solidFill>
                  <a:srgbClr val="cc3300"/>
                </a:solidFill>
                <a:latin typeface="Pooh"/>
              </a:rPr>
              <a:t> </a:t>
            </a:r>
            <a:r>
              <a:rPr b="1" lang="en-US" sz="4800" spc="-1" strike="noStrike">
                <a:solidFill>
                  <a:srgbClr val="cc3300"/>
                </a:solidFill>
                <a:latin typeface="Pooh"/>
              </a:rPr>
              <a:t>M</a:t>
            </a:r>
            <a:r>
              <a:rPr b="0" lang="en-US" sz="3600" spc="-1" strike="noStrike">
                <a:solidFill>
                  <a:srgbClr val="cc3300"/>
                </a:solidFill>
                <a:latin typeface="Pooh"/>
              </a:rPr>
              <a:t>ilitar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523880" y="2362320"/>
          <a:ext cx="7619760" cy="1100160"/>
        </p:xfrm>
        <a:graphic>
          <a:graphicData uri="http://schemas.openxmlformats.org/drawingml/2006/table">
            <a:tbl>
              <a:tblPr/>
              <a:tblGrid>
                <a:gridCol w="1269720"/>
                <a:gridCol w="1270080"/>
                <a:gridCol w="1270080"/>
                <a:gridCol w="1270080"/>
                <a:gridCol w="1270080"/>
                <a:gridCol w="12697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61f0a"/>
                          </a:solidFill>
                          <a:latin typeface="Comic Sans MS"/>
                          <a:ea typeface="Arial"/>
                        </a:rPr>
                        <a:t>18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61f0a"/>
                          </a:solidFill>
                          <a:latin typeface="Comic Sans MS"/>
                          <a:ea typeface="Arial"/>
                        </a:rPr>
                        <a:t>18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61f0a"/>
                          </a:solidFill>
                          <a:latin typeface="Comic Sans MS"/>
                          <a:ea typeface="Arial"/>
                        </a:rPr>
                        <a:t>18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61f0a"/>
                          </a:solidFill>
                          <a:latin typeface="Comic Sans MS"/>
                          <a:ea typeface="Arial"/>
                        </a:rPr>
                        <a:t>19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61f0a"/>
                          </a:solidFill>
                          <a:latin typeface="Comic Sans MS"/>
                          <a:ea typeface="Arial"/>
                        </a:rPr>
                        <a:t>19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61f0a"/>
                          </a:solidFill>
                          <a:latin typeface="Comic Sans MS"/>
                          <a:ea typeface="Arial"/>
                        </a:rPr>
                        <a:t>19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9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1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1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2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2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39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1447920" y="762120"/>
            <a:ext cx="7696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b1b53"/>
                </a:solidFill>
                <a:latin typeface="Comic Sans MS"/>
              </a:rPr>
              <a:t>Total Defense Expenditures for the Great Powers [Ger., A-H, It., Fr., Br., Rus.] </a:t>
            </a:r>
            <a:br>
              <a:rPr sz="2800"/>
            </a:br>
            <a:r>
              <a:rPr b="1" lang="en-US" sz="2800" spc="-1" strike="noStrike">
                <a:solidFill>
                  <a:srgbClr val="1b1b53"/>
                </a:solidFill>
                <a:latin typeface="Comic Sans MS"/>
              </a:rPr>
              <a:t>in millions of £s (British pound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0" t="0" r="84169" b="0"/>
          <a:stretch/>
        </p:blipFill>
        <p:spPr>
          <a:xfrm>
            <a:off x="0" y="0"/>
            <a:ext cx="144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0" r="84169" b="0"/>
          <a:stretch/>
        </p:blipFill>
        <p:spPr>
          <a:xfrm>
            <a:off x="0" y="0"/>
            <a:ext cx="144792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676520" y="3581280"/>
            <a:ext cx="1981080" cy="13208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676520" y="5334120"/>
            <a:ext cx="1981080" cy="13208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676520" y="1676520"/>
            <a:ext cx="1981080" cy="1295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rcRect l="1617" t="0" r="1617" b="0"/>
          <a:stretch/>
        </p:blipFill>
        <p:spPr>
          <a:xfrm>
            <a:off x="6705720" y="3505320"/>
            <a:ext cx="1981080" cy="1357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6705720" y="1752480"/>
            <a:ext cx="198108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7"/>
          <a:srcRect l="2756" t="4132" r="2756" b="5313"/>
          <a:stretch/>
        </p:blipFill>
        <p:spPr>
          <a:xfrm>
            <a:off x="6705720" y="5334120"/>
            <a:ext cx="1981080" cy="12952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962520" y="4191120"/>
            <a:ext cx="304560" cy="0"/>
          </a:xfrm>
          <a:prstGeom prst="line">
            <a:avLst/>
          </a:prstGeom>
          <a:ln cap="sq" w="38160">
            <a:solidFill>
              <a:srgbClr val="e61f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400800" y="2286000"/>
            <a:ext cx="0" cy="3657600"/>
          </a:xfrm>
          <a:prstGeom prst="line">
            <a:avLst/>
          </a:prstGeom>
          <a:ln cap="sq"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095520" y="4191120"/>
            <a:ext cx="304920" cy="0"/>
          </a:xfrm>
          <a:prstGeom prst="line">
            <a:avLst/>
          </a:prstGeom>
          <a:ln cap="sq"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19720" y="3124080"/>
            <a:ext cx="1600200" cy="1981440"/>
          </a:xfrm>
          <a:prstGeom prst="irregularSeal1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8100000"/>
          </a:gradFill>
          <a:ln cap="sq" w="12600">
            <a:solidFill>
              <a:srgbClr val="000000"/>
            </a:solidFill>
            <a:miter/>
          </a:ln>
          <a:effectLst>
            <a:outerShdw dist="89808" dir="4916091" blurRad="0" rotWithShape="0">
              <a:srgbClr val="99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762120"/>
            <a:ext cx="3124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61f0a"/>
                </a:solidFill>
                <a:uFillTx/>
                <a:latin typeface="Comic Sans MS"/>
              </a:rPr>
              <a:t>Triple Entente</a:t>
            </a:r>
            <a:r>
              <a:rPr b="0" lang="en-US" sz="2800" spc="-1" strike="noStrike">
                <a:solidFill>
                  <a:srgbClr val="e61f0a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324480" y="762120"/>
            <a:ext cx="2819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cc00"/>
                </a:solidFill>
                <a:uFillTx/>
                <a:latin typeface="Comic Sans MS"/>
              </a:rPr>
              <a:t>Triple Alliance</a:t>
            </a:r>
            <a:r>
              <a:rPr b="0" lang="en-US" sz="2800" spc="-1" strike="noStrike">
                <a:solidFill>
                  <a:srgbClr val="99cc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62520" y="2209680"/>
            <a:ext cx="0" cy="3657600"/>
          </a:xfrm>
          <a:prstGeom prst="line">
            <a:avLst/>
          </a:prstGeom>
          <a:ln cap="sq"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23880" y="0"/>
            <a:ext cx="76201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Pooh"/>
              </a:rPr>
              <a:t>Causes of WWI</a:t>
            </a:r>
            <a:r>
              <a:rPr b="1" lang="en-US" sz="4400" spc="-1" strike="noStrike">
                <a:solidFill>
                  <a:srgbClr val="003366"/>
                </a:solidFill>
                <a:latin typeface="Pooh"/>
              </a:rPr>
              <a:t> -</a:t>
            </a:r>
            <a:r>
              <a:rPr b="1" lang="en-US" sz="4400" spc="-1" strike="noStrike">
                <a:solidFill>
                  <a:srgbClr val="009900"/>
                </a:solidFill>
                <a:latin typeface="Pooh"/>
              </a:rPr>
              <a:t> </a:t>
            </a:r>
            <a:r>
              <a:rPr b="1" lang="en-US" sz="4800" spc="-1" strike="noStrike">
                <a:solidFill>
                  <a:srgbClr val="009900"/>
                </a:solidFill>
                <a:latin typeface="Pooh"/>
              </a:rPr>
              <a:t>A</a:t>
            </a:r>
            <a:r>
              <a:rPr b="0" lang="en-US" sz="3600" spc="-1" strike="noStrike">
                <a:solidFill>
                  <a:srgbClr val="009900"/>
                </a:solidFill>
                <a:latin typeface="Pooh"/>
              </a:rPr>
              <a:t>llia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553080" y="12952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24480" y="30481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stria-Hung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477120" y="48769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a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00200" y="12193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eat Bri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447920" y="31240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76520" y="487692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s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77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770" fill="hold"/>
                                        <p:tgtEl>
                                          <p:spTgt spid="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>
            <a:hlinkClick r:id="rId1"/>
          </p:cNvPr>
          <p:cNvPicPr/>
          <p:nvPr/>
        </p:nvPicPr>
        <p:blipFill>
          <a:blip r:embed="rId2"/>
          <a:srcRect l="0" t="0" r="0" b="8820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635200" y="2806560"/>
            <a:ext cx="2786040" cy="10638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482920" y="2554200"/>
            <a:ext cx="3483000" cy="1773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2330280" y="2301840"/>
            <a:ext cx="4178520" cy="2481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2178000" y="2050920"/>
            <a:ext cx="4875120" cy="31892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2025720" y="1797120"/>
            <a:ext cx="5572080" cy="39002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1873080" y="1546200"/>
            <a:ext cx="6267600" cy="4608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7"/>
          <a:stretch/>
        </p:blipFill>
        <p:spPr>
          <a:xfrm>
            <a:off x="1523880" y="990720"/>
            <a:ext cx="7239240" cy="5622840"/>
          </a:xfrm>
          <a:prstGeom prst="rect">
            <a:avLst/>
          </a:prstGeom>
          <a:ln w="0">
            <a:noFill/>
          </a:ln>
        </p:spPr>
      </p:pic>
      <p:sp>
        <p:nvSpPr>
          <p:cNvPr id="91" name="">
            <a:hlinkClick r:id="rId8" action="ppaction://hlinksldjump"/>
          </p:cNvPr>
          <p:cNvSpPr/>
          <p:nvPr/>
        </p:nvSpPr>
        <p:spPr>
          <a:xfrm>
            <a:off x="1420920" y="-76320"/>
            <a:ext cx="1474560" cy="1967040"/>
          </a:xfrm>
          <a:custGeom>
            <a:avLst/>
            <a:gdLst>
              <a:gd name="textAreaLeft" fmla="*/ 95400 w 1474560"/>
              <a:gd name="textAreaRight" fmla="*/ 1379160 w 1474560"/>
              <a:gd name="textAreaTop" fmla="*/ 95400 h 1967040"/>
              <a:gd name="textAreaBottom" fmla="*/ 1871640 h 196704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rId9" action="ppaction://hlinksldjump"/>
          </p:cNvPr>
          <p:cNvSpPr/>
          <p:nvPr/>
        </p:nvSpPr>
        <p:spPr>
          <a:xfrm>
            <a:off x="6078600" y="561960"/>
            <a:ext cx="1984320" cy="2776680"/>
          </a:xfrm>
          <a:custGeom>
            <a:avLst/>
            <a:gdLst>
              <a:gd name="textAreaLeft" fmla="*/ 128520 w 1984320"/>
              <a:gd name="textAreaRight" fmla="*/ 1855800 w 1984320"/>
              <a:gd name="textAreaTop" fmla="*/ 128520 h 2776680"/>
              <a:gd name="textAreaBottom" fmla="*/ 2648160 h 2776680"/>
            </a:gdLst>
            <a:ahLst/>
            <a:rect l="textAreaLeft" t="textAreaTop" r="textAreaRight" b="textAreaBottom"/>
            <a:pathLst>
              <a:path w="21600" h="30224">
                <a:moveTo>
                  <a:pt x="0" y="0"/>
                </a:moveTo>
                <a:lnTo>
                  <a:pt x="21600" y="0"/>
                </a:lnTo>
                <a:lnTo>
                  <a:pt x="21600" y="30224"/>
                </a:lnTo>
                <a:lnTo>
                  <a:pt x="0" y="30224"/>
                </a:lnTo>
                <a:close/>
              </a:path>
              <a:path fill="lightenLess" w="21600" h="302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4">
                <a:moveTo>
                  <a:pt x="21600" y="0"/>
                </a:moveTo>
                <a:lnTo>
                  <a:pt x="21600" y="30224"/>
                </a:lnTo>
                <a:lnTo>
                  <a:pt x="20200" y="28824"/>
                </a:lnTo>
                <a:lnTo>
                  <a:pt x="20200" y="1400"/>
                </a:lnTo>
                <a:close/>
              </a:path>
              <a:path fill="darkenLess" w="21600" h="30224">
                <a:moveTo>
                  <a:pt x="21600" y="30224"/>
                </a:moveTo>
                <a:lnTo>
                  <a:pt x="0" y="30224"/>
                </a:lnTo>
                <a:lnTo>
                  <a:pt x="1400" y="28824"/>
                </a:lnTo>
                <a:lnTo>
                  <a:pt x="20200" y="28824"/>
                </a:lnTo>
                <a:close/>
              </a:path>
              <a:path fill="lighten" w="21600" h="30224">
                <a:moveTo>
                  <a:pt x="0" y="302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10" action="ppaction://hlinksldjump"/>
          </p:cNvPr>
          <p:cNvSpPr/>
          <p:nvPr/>
        </p:nvSpPr>
        <p:spPr>
          <a:xfrm>
            <a:off x="914400" y="2725560"/>
            <a:ext cx="1289160" cy="1832040"/>
          </a:xfrm>
          <a:custGeom>
            <a:avLst/>
            <a:gdLst>
              <a:gd name="textAreaLeft" fmla="*/ 83520 w 1289160"/>
              <a:gd name="textAreaRight" fmla="*/ 1205640 w 1289160"/>
              <a:gd name="textAreaTop" fmla="*/ 83520 h 1832040"/>
              <a:gd name="textAreaBottom" fmla="*/ 1748520 h 1832040"/>
            </a:gdLst>
            <a:ahLst/>
            <a:rect l="textAreaLeft" t="textAreaTop" r="textAreaRight" b="textAreaBottom"/>
            <a:pathLst>
              <a:path w="21600" h="30693">
                <a:moveTo>
                  <a:pt x="0" y="0"/>
                </a:moveTo>
                <a:lnTo>
                  <a:pt x="21600" y="0"/>
                </a:lnTo>
                <a:lnTo>
                  <a:pt x="21600" y="30693"/>
                </a:lnTo>
                <a:lnTo>
                  <a:pt x="0" y="30693"/>
                </a:lnTo>
                <a:close/>
              </a:path>
              <a:path fill="lightenLess" w="21600" h="306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693">
                <a:moveTo>
                  <a:pt x="21600" y="0"/>
                </a:moveTo>
                <a:lnTo>
                  <a:pt x="21600" y="30693"/>
                </a:lnTo>
                <a:lnTo>
                  <a:pt x="20200" y="29294"/>
                </a:lnTo>
                <a:lnTo>
                  <a:pt x="20200" y="1400"/>
                </a:lnTo>
                <a:close/>
              </a:path>
              <a:path fill="darkenLess" w="21600" h="30693">
                <a:moveTo>
                  <a:pt x="21600" y="30693"/>
                </a:moveTo>
                <a:lnTo>
                  <a:pt x="0" y="30693"/>
                </a:lnTo>
                <a:lnTo>
                  <a:pt x="1400" y="29294"/>
                </a:lnTo>
                <a:lnTo>
                  <a:pt x="20200" y="29294"/>
                </a:lnTo>
                <a:close/>
              </a:path>
              <a:path fill="lighten" w="21600" h="30693">
                <a:moveTo>
                  <a:pt x="0" y="306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92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11" action="ppaction://hlinksldjump"/>
          </p:cNvPr>
          <p:cNvSpPr/>
          <p:nvPr/>
        </p:nvSpPr>
        <p:spPr>
          <a:xfrm>
            <a:off x="6599160" y="5195880"/>
            <a:ext cx="1393920" cy="1417680"/>
          </a:xfrm>
          <a:custGeom>
            <a:avLst/>
            <a:gdLst>
              <a:gd name="textAreaLeft" fmla="*/ 90360 w 1393920"/>
              <a:gd name="textAreaRight" fmla="*/ 1303560 w 1393920"/>
              <a:gd name="textAreaTop" fmla="*/ 90360 h 1417680"/>
              <a:gd name="textAreaBottom" fmla="*/ 1327320 h 1417680"/>
            </a:gdLst>
            <a:ahLst/>
            <a:rect l="textAreaLeft" t="textAreaTop" r="textAreaRight" b="textAreaBottom"/>
            <a:pathLst>
              <a:path w="21600" h="21968">
                <a:moveTo>
                  <a:pt x="0" y="0"/>
                </a:moveTo>
                <a:lnTo>
                  <a:pt x="21600" y="0"/>
                </a:lnTo>
                <a:lnTo>
                  <a:pt x="21600" y="21968"/>
                </a:lnTo>
                <a:lnTo>
                  <a:pt x="0" y="21968"/>
                </a:lnTo>
                <a:close/>
              </a:path>
              <a:path fill="lightenLess" w="21600" h="2196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8">
                <a:moveTo>
                  <a:pt x="21600" y="0"/>
                </a:moveTo>
                <a:lnTo>
                  <a:pt x="21600" y="21968"/>
                </a:lnTo>
                <a:lnTo>
                  <a:pt x="20200" y="20568"/>
                </a:lnTo>
                <a:lnTo>
                  <a:pt x="20200" y="1400"/>
                </a:lnTo>
                <a:close/>
              </a:path>
              <a:path fill="darkenLess" w="21600" h="21968">
                <a:moveTo>
                  <a:pt x="21600" y="21968"/>
                </a:moveTo>
                <a:lnTo>
                  <a:pt x="0" y="21968"/>
                </a:lnTo>
                <a:lnTo>
                  <a:pt x="1400" y="20568"/>
                </a:lnTo>
                <a:lnTo>
                  <a:pt x="20200" y="20568"/>
                </a:lnTo>
                <a:close/>
              </a:path>
              <a:path fill="lighten" w="21600" h="21968">
                <a:moveTo>
                  <a:pt x="0" y="2196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12" action="ppaction://hlinksldjump"/>
          </p:cNvPr>
          <p:cNvSpPr/>
          <p:nvPr/>
        </p:nvSpPr>
        <p:spPr>
          <a:xfrm>
            <a:off x="2916360" y="4140360"/>
            <a:ext cx="987480" cy="2246040"/>
          </a:xfrm>
          <a:custGeom>
            <a:avLst/>
            <a:gdLst>
              <a:gd name="textAreaLeft" fmla="*/ 63720 w 987480"/>
              <a:gd name="textAreaRight" fmla="*/ 923760 w 987480"/>
              <a:gd name="textAreaTop" fmla="*/ 63720 h 2246040"/>
              <a:gd name="textAreaBottom" fmla="*/ 2182320 h 2246040"/>
            </a:gdLst>
            <a:ahLst/>
            <a:rect l="textAreaLeft" t="textAreaTop" r="textAreaRight" b="textAreaBottom"/>
            <a:pathLst>
              <a:path w="21600" h="49120">
                <a:moveTo>
                  <a:pt x="0" y="0"/>
                </a:moveTo>
                <a:lnTo>
                  <a:pt x="21600" y="0"/>
                </a:lnTo>
                <a:lnTo>
                  <a:pt x="21600" y="49120"/>
                </a:lnTo>
                <a:lnTo>
                  <a:pt x="0" y="49120"/>
                </a:lnTo>
                <a:close/>
              </a:path>
              <a:path fill="lightenLess" w="21600" h="491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9120">
                <a:moveTo>
                  <a:pt x="21600" y="0"/>
                </a:moveTo>
                <a:lnTo>
                  <a:pt x="21600" y="49120"/>
                </a:lnTo>
                <a:lnTo>
                  <a:pt x="20200" y="47720"/>
                </a:lnTo>
                <a:lnTo>
                  <a:pt x="20200" y="1400"/>
                </a:lnTo>
                <a:close/>
              </a:path>
              <a:path fill="darkenLess" w="21600" h="49120">
                <a:moveTo>
                  <a:pt x="21600" y="49120"/>
                </a:moveTo>
                <a:lnTo>
                  <a:pt x="0" y="49120"/>
                </a:lnTo>
                <a:lnTo>
                  <a:pt x="1400" y="47720"/>
                </a:lnTo>
                <a:lnTo>
                  <a:pt x="20200" y="47720"/>
                </a:lnTo>
                <a:close/>
              </a:path>
              <a:path fill="lighten" w="21600" h="49120">
                <a:moveTo>
                  <a:pt x="0" y="49120"/>
                </a:moveTo>
                <a:lnTo>
                  <a:pt x="0" y="0"/>
                </a:lnTo>
                <a:lnTo>
                  <a:pt x="1400" y="1400"/>
                </a:lnTo>
                <a:lnTo>
                  <a:pt x="1400" y="477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rId13" action="ppaction://hlinksldjump"/>
          </p:cNvPr>
          <p:cNvSpPr/>
          <p:nvPr/>
        </p:nvSpPr>
        <p:spPr>
          <a:xfrm>
            <a:off x="4465800" y="3660840"/>
            <a:ext cx="1218960" cy="592200"/>
          </a:xfrm>
          <a:custGeom>
            <a:avLst/>
            <a:gdLst>
              <a:gd name="textAreaLeft" fmla="*/ 38160 w 1218960"/>
              <a:gd name="textAreaRight" fmla="*/ 1180800 w 1218960"/>
              <a:gd name="textAreaTop" fmla="*/ 38160 h 592200"/>
              <a:gd name="textAreaBottom" fmla="*/ 554040 h 592200"/>
            </a:gdLst>
            <a:ahLst/>
            <a:rect l="textAreaLeft" t="textAreaTop" r="textAreaRight" b="textAreaBottom"/>
            <a:pathLst>
              <a:path w="44447" h="21600">
                <a:moveTo>
                  <a:pt x="0" y="0"/>
                </a:moveTo>
                <a:lnTo>
                  <a:pt x="44447" y="0"/>
                </a:lnTo>
                <a:lnTo>
                  <a:pt x="44447" y="21600"/>
                </a:lnTo>
                <a:lnTo>
                  <a:pt x="0" y="21600"/>
                </a:lnTo>
                <a:close/>
              </a:path>
              <a:path fill="lightenLess" w="44447" h="21600">
                <a:moveTo>
                  <a:pt x="0" y="0"/>
                </a:moveTo>
                <a:lnTo>
                  <a:pt x="44447" y="0"/>
                </a:lnTo>
                <a:lnTo>
                  <a:pt x="43047" y="1400"/>
                </a:lnTo>
                <a:lnTo>
                  <a:pt x="1400" y="1400"/>
                </a:lnTo>
                <a:close/>
              </a:path>
              <a:path fill="darken" w="44447" h="21600">
                <a:moveTo>
                  <a:pt x="44447" y="0"/>
                </a:moveTo>
                <a:lnTo>
                  <a:pt x="44447" y="21600"/>
                </a:lnTo>
                <a:lnTo>
                  <a:pt x="43047" y="20200"/>
                </a:lnTo>
                <a:lnTo>
                  <a:pt x="43047" y="1400"/>
                </a:lnTo>
                <a:close/>
              </a:path>
              <a:path fill="darkenLess" w="44447" h="21600">
                <a:moveTo>
                  <a:pt x="44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047" y="20200"/>
                </a:lnTo>
                <a:close/>
              </a:path>
              <a:path fill="lighten" w="44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14" action="ppaction://hlinksldjump"/>
          </p:cNvPr>
          <p:cNvSpPr/>
          <p:nvPr/>
        </p:nvSpPr>
        <p:spPr>
          <a:xfrm>
            <a:off x="3957480" y="2629080"/>
            <a:ext cx="928800" cy="709560"/>
          </a:xfrm>
          <a:custGeom>
            <a:avLst/>
            <a:gdLst>
              <a:gd name="textAreaLeft" fmla="*/ 45720 w 928800"/>
              <a:gd name="textAreaRight" fmla="*/ 883080 w 928800"/>
              <a:gd name="textAreaTop" fmla="*/ 45720 h 709560"/>
              <a:gd name="textAreaBottom" fmla="*/ 663840 h 709560"/>
            </a:gdLst>
            <a:ahLst/>
            <a:rect l="textAreaLeft" t="textAreaTop" r="textAreaRight" b="textAreaBottom"/>
            <a:pathLst>
              <a:path w="28271" h="21600">
                <a:moveTo>
                  <a:pt x="0" y="0"/>
                </a:moveTo>
                <a:lnTo>
                  <a:pt x="28271" y="0"/>
                </a:lnTo>
                <a:lnTo>
                  <a:pt x="28271" y="21600"/>
                </a:lnTo>
                <a:lnTo>
                  <a:pt x="0" y="21600"/>
                </a:lnTo>
                <a:close/>
              </a:path>
              <a:path fill="lightenLess" w="28271" h="21600">
                <a:moveTo>
                  <a:pt x="0" y="0"/>
                </a:moveTo>
                <a:lnTo>
                  <a:pt x="28271" y="0"/>
                </a:lnTo>
                <a:lnTo>
                  <a:pt x="26871" y="1400"/>
                </a:lnTo>
                <a:lnTo>
                  <a:pt x="1400" y="1400"/>
                </a:lnTo>
                <a:close/>
              </a:path>
              <a:path fill="darken" w="28271" h="21600">
                <a:moveTo>
                  <a:pt x="28271" y="0"/>
                </a:moveTo>
                <a:lnTo>
                  <a:pt x="28271" y="21600"/>
                </a:lnTo>
                <a:lnTo>
                  <a:pt x="26871" y="20200"/>
                </a:lnTo>
                <a:lnTo>
                  <a:pt x="26871" y="1400"/>
                </a:lnTo>
                <a:close/>
              </a:path>
              <a:path fill="darkenLess" w="28271" h="21600">
                <a:moveTo>
                  <a:pt x="282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71" y="20200"/>
                </a:lnTo>
                <a:close/>
              </a:path>
              <a:path fill="lighten" w="282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15" action="ppaction://hlinksldjump"/>
          </p:cNvPr>
          <p:cNvSpPr/>
          <p:nvPr/>
        </p:nvSpPr>
        <p:spPr>
          <a:xfrm>
            <a:off x="3043080" y="3000240"/>
            <a:ext cx="406440" cy="414360"/>
          </a:xfrm>
          <a:custGeom>
            <a:avLst/>
            <a:gdLst>
              <a:gd name="textAreaLeft" fmla="*/ 26280 w 406440"/>
              <a:gd name="textAreaRight" fmla="*/ 380160 w 406440"/>
              <a:gd name="textAreaTop" fmla="*/ 26280 h 414360"/>
              <a:gd name="textAreaBottom" fmla="*/ 388080 h 414360"/>
            </a:gdLst>
            <a:ahLst/>
            <a:rect l="textAreaLeft" t="textAreaTop" r="textAreaRight" b="textAreaBottom"/>
            <a:pathLst>
              <a:path w="21600" h="22021">
                <a:moveTo>
                  <a:pt x="0" y="0"/>
                </a:moveTo>
                <a:lnTo>
                  <a:pt x="21600" y="0"/>
                </a:lnTo>
                <a:lnTo>
                  <a:pt x="21600" y="22021"/>
                </a:lnTo>
                <a:lnTo>
                  <a:pt x="0" y="22021"/>
                </a:lnTo>
                <a:close/>
              </a:path>
              <a:path fill="lightenLess" w="21600" h="2202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21">
                <a:moveTo>
                  <a:pt x="21600" y="0"/>
                </a:moveTo>
                <a:lnTo>
                  <a:pt x="21600" y="22021"/>
                </a:lnTo>
                <a:lnTo>
                  <a:pt x="20200" y="20621"/>
                </a:lnTo>
                <a:lnTo>
                  <a:pt x="20200" y="1400"/>
                </a:lnTo>
                <a:close/>
              </a:path>
              <a:path fill="darkenLess" w="21600" h="22021">
                <a:moveTo>
                  <a:pt x="21600" y="22021"/>
                </a:moveTo>
                <a:lnTo>
                  <a:pt x="0" y="22021"/>
                </a:lnTo>
                <a:lnTo>
                  <a:pt x="1400" y="20621"/>
                </a:lnTo>
                <a:lnTo>
                  <a:pt x="20200" y="20621"/>
                </a:lnTo>
                <a:close/>
              </a:path>
              <a:path fill="lighten" w="21600" h="22021">
                <a:moveTo>
                  <a:pt x="0" y="2202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2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rId16" action="ppaction://hlinksldjump"/>
          </p:cNvPr>
          <p:cNvSpPr/>
          <p:nvPr/>
        </p:nvSpPr>
        <p:spPr>
          <a:xfrm>
            <a:off x="4846680" y="4603680"/>
            <a:ext cx="522360" cy="944640"/>
          </a:xfrm>
          <a:custGeom>
            <a:avLst/>
            <a:gdLst>
              <a:gd name="textAreaLeft" fmla="*/ 33840 w 522360"/>
              <a:gd name="textAreaRight" fmla="*/ 488520 w 522360"/>
              <a:gd name="textAreaTop" fmla="*/ 33840 h 944640"/>
              <a:gd name="textAreaBottom" fmla="*/ 910800 h 944640"/>
            </a:gdLst>
            <a:ahLst/>
            <a:rect l="textAreaLeft" t="textAreaTop" r="textAreaRight" b="textAreaBottom"/>
            <a:pathLst>
              <a:path w="21600" h="39050">
                <a:moveTo>
                  <a:pt x="0" y="0"/>
                </a:moveTo>
                <a:lnTo>
                  <a:pt x="21600" y="0"/>
                </a:lnTo>
                <a:lnTo>
                  <a:pt x="21600" y="39050"/>
                </a:lnTo>
                <a:lnTo>
                  <a:pt x="0" y="39050"/>
                </a:lnTo>
                <a:close/>
              </a:path>
              <a:path fill="lightenLess" w="21600" h="390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9050">
                <a:moveTo>
                  <a:pt x="21600" y="0"/>
                </a:moveTo>
                <a:lnTo>
                  <a:pt x="21600" y="39050"/>
                </a:lnTo>
                <a:lnTo>
                  <a:pt x="20200" y="37650"/>
                </a:lnTo>
                <a:lnTo>
                  <a:pt x="20200" y="1400"/>
                </a:lnTo>
                <a:close/>
              </a:path>
              <a:path fill="darkenLess" w="21600" h="39050">
                <a:moveTo>
                  <a:pt x="21600" y="39050"/>
                </a:moveTo>
                <a:lnTo>
                  <a:pt x="0" y="39050"/>
                </a:lnTo>
                <a:lnTo>
                  <a:pt x="1400" y="37650"/>
                </a:lnTo>
                <a:lnTo>
                  <a:pt x="20200" y="37650"/>
                </a:lnTo>
                <a:close/>
              </a:path>
              <a:path fill="lighten" w="21600" h="39050">
                <a:moveTo>
                  <a:pt x="0" y="39050"/>
                </a:moveTo>
                <a:lnTo>
                  <a:pt x="0" y="0"/>
                </a:lnTo>
                <a:lnTo>
                  <a:pt x="1400" y="1400"/>
                </a:lnTo>
                <a:lnTo>
                  <a:pt x="1400" y="3765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rId17" action="ppaction://hlinksldjump"/>
          </p:cNvPr>
          <p:cNvSpPr/>
          <p:nvPr/>
        </p:nvSpPr>
        <p:spPr>
          <a:xfrm>
            <a:off x="3017880" y="1386000"/>
            <a:ext cx="1568520" cy="885600"/>
          </a:xfrm>
          <a:custGeom>
            <a:avLst/>
            <a:gdLst>
              <a:gd name="textAreaLeft" fmla="*/ 57240 w 1568520"/>
              <a:gd name="textAreaRight" fmla="*/ 1511280 w 1568520"/>
              <a:gd name="textAreaTop" fmla="*/ 57240 h 885600"/>
              <a:gd name="textAreaBottom" fmla="*/ 828360 h 885600"/>
            </a:gdLst>
            <a:ahLst/>
            <a:rect l="textAreaLeft" t="textAreaTop" r="textAreaRight" b="textAreaBottom"/>
            <a:pathLst>
              <a:path w="38250" h="21600">
                <a:moveTo>
                  <a:pt x="0" y="0"/>
                </a:moveTo>
                <a:lnTo>
                  <a:pt x="38250" y="0"/>
                </a:lnTo>
                <a:lnTo>
                  <a:pt x="38250" y="21600"/>
                </a:lnTo>
                <a:lnTo>
                  <a:pt x="0" y="21600"/>
                </a:lnTo>
                <a:close/>
              </a:path>
              <a:path fill="lightenLess" w="38250" h="21600">
                <a:moveTo>
                  <a:pt x="0" y="0"/>
                </a:moveTo>
                <a:lnTo>
                  <a:pt x="38250" y="0"/>
                </a:lnTo>
                <a:lnTo>
                  <a:pt x="36850" y="1400"/>
                </a:lnTo>
                <a:lnTo>
                  <a:pt x="1400" y="1400"/>
                </a:lnTo>
                <a:close/>
              </a:path>
              <a:path fill="darken" w="38250" h="21600">
                <a:moveTo>
                  <a:pt x="38250" y="0"/>
                </a:moveTo>
                <a:lnTo>
                  <a:pt x="38250" y="21600"/>
                </a:lnTo>
                <a:lnTo>
                  <a:pt x="36850" y="20200"/>
                </a:lnTo>
                <a:lnTo>
                  <a:pt x="36850" y="1400"/>
                </a:lnTo>
                <a:close/>
              </a:path>
              <a:path fill="darkenLess" w="38250" h="21600">
                <a:moveTo>
                  <a:pt x="382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50" y="20200"/>
                </a:lnTo>
                <a:close/>
              </a:path>
              <a:path fill="lighten" w="382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35120" y="2449440"/>
            <a:ext cx="987480" cy="355680"/>
          </a:xfrm>
          <a:custGeom>
            <a:avLst/>
            <a:gdLst>
              <a:gd name="textAreaLeft" fmla="*/ 23040 w 987480"/>
              <a:gd name="textAreaRight" fmla="*/ 964440 w 987480"/>
              <a:gd name="textAreaTop" fmla="*/ 23040 h 355680"/>
              <a:gd name="textAreaBottom" fmla="*/ 332640 h 355680"/>
            </a:gdLst>
            <a:ahLst/>
            <a:rect l="textAreaLeft" t="textAreaTop" r="textAreaRight" b="textAreaBottom"/>
            <a:pathLst>
              <a:path w="59930" h="21600">
                <a:moveTo>
                  <a:pt x="0" y="0"/>
                </a:moveTo>
                <a:lnTo>
                  <a:pt x="59930" y="0"/>
                </a:lnTo>
                <a:lnTo>
                  <a:pt x="59930" y="21600"/>
                </a:lnTo>
                <a:lnTo>
                  <a:pt x="0" y="21600"/>
                </a:lnTo>
                <a:close/>
              </a:path>
              <a:path fill="lightenLess" w="59930" h="21600">
                <a:moveTo>
                  <a:pt x="0" y="0"/>
                </a:moveTo>
                <a:lnTo>
                  <a:pt x="59930" y="0"/>
                </a:lnTo>
                <a:lnTo>
                  <a:pt x="58530" y="1400"/>
                </a:lnTo>
                <a:lnTo>
                  <a:pt x="1400" y="1400"/>
                </a:lnTo>
                <a:close/>
              </a:path>
              <a:path fill="darken" w="59930" h="21600">
                <a:moveTo>
                  <a:pt x="59930" y="0"/>
                </a:moveTo>
                <a:lnTo>
                  <a:pt x="59930" y="21600"/>
                </a:lnTo>
                <a:lnTo>
                  <a:pt x="58530" y="20200"/>
                </a:lnTo>
                <a:lnTo>
                  <a:pt x="58530" y="1400"/>
                </a:lnTo>
                <a:close/>
              </a:path>
              <a:path fill="darkenLess" w="59930" h="21600">
                <a:moveTo>
                  <a:pt x="59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30" y="20200"/>
                </a:lnTo>
                <a:close/>
              </a:path>
              <a:path fill="lighten" w="59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05000" y="3619440"/>
            <a:ext cx="231840" cy="709560"/>
          </a:xfrm>
          <a:custGeom>
            <a:avLst/>
            <a:gdLst>
              <a:gd name="textAreaLeft" fmla="*/ 14760 w 231840"/>
              <a:gd name="textAreaRight" fmla="*/ 217080 w 231840"/>
              <a:gd name="textAreaTop" fmla="*/ 14760 h 709560"/>
              <a:gd name="textAreaBottom" fmla="*/ 694800 h 709560"/>
            </a:gdLst>
            <a:ahLst/>
            <a:rect l="textAreaLeft" t="textAreaTop" r="textAreaRight" b="textAreaBottom"/>
            <a:pathLst>
              <a:path w="21600" h="66039">
                <a:moveTo>
                  <a:pt x="0" y="0"/>
                </a:moveTo>
                <a:lnTo>
                  <a:pt x="21600" y="0"/>
                </a:lnTo>
                <a:lnTo>
                  <a:pt x="21600" y="66039"/>
                </a:lnTo>
                <a:lnTo>
                  <a:pt x="0" y="66039"/>
                </a:lnTo>
                <a:close/>
              </a:path>
              <a:path fill="lightenLess" w="21600" h="6603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6039">
                <a:moveTo>
                  <a:pt x="21600" y="0"/>
                </a:moveTo>
                <a:lnTo>
                  <a:pt x="21600" y="66039"/>
                </a:lnTo>
                <a:lnTo>
                  <a:pt x="20200" y="64639"/>
                </a:lnTo>
                <a:lnTo>
                  <a:pt x="20200" y="1400"/>
                </a:lnTo>
                <a:close/>
              </a:path>
              <a:path fill="darkenLess" w="21600" h="66039">
                <a:moveTo>
                  <a:pt x="21600" y="66039"/>
                </a:moveTo>
                <a:lnTo>
                  <a:pt x="0" y="66039"/>
                </a:lnTo>
                <a:lnTo>
                  <a:pt x="1400" y="64639"/>
                </a:lnTo>
                <a:lnTo>
                  <a:pt x="20200" y="64639"/>
                </a:lnTo>
                <a:close/>
              </a:path>
              <a:path fill="lighten" w="21600" h="66039">
                <a:moveTo>
                  <a:pt x="0" y="66039"/>
                </a:moveTo>
                <a:lnTo>
                  <a:pt x="0" y="0"/>
                </a:lnTo>
                <a:lnTo>
                  <a:pt x="1400" y="1400"/>
                </a:lnTo>
                <a:lnTo>
                  <a:pt x="1400" y="6463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033800" y="5213520"/>
            <a:ext cx="406440" cy="944280"/>
          </a:xfrm>
          <a:custGeom>
            <a:avLst/>
            <a:gdLst>
              <a:gd name="textAreaLeft" fmla="*/ 26280 w 406440"/>
              <a:gd name="textAreaRight" fmla="*/ 380160 w 406440"/>
              <a:gd name="textAreaTop" fmla="*/ 26280 h 944280"/>
              <a:gd name="textAreaBottom" fmla="*/ 918000 h 944280"/>
            </a:gdLst>
            <a:ahLst/>
            <a:rect l="textAreaLeft" t="textAreaTop" r="textAreaRight" b="textAreaBottom"/>
            <a:pathLst>
              <a:path w="21600" h="50158">
                <a:moveTo>
                  <a:pt x="0" y="0"/>
                </a:moveTo>
                <a:lnTo>
                  <a:pt x="21600" y="0"/>
                </a:lnTo>
                <a:lnTo>
                  <a:pt x="21600" y="50158"/>
                </a:lnTo>
                <a:lnTo>
                  <a:pt x="0" y="50158"/>
                </a:lnTo>
                <a:close/>
              </a:path>
              <a:path fill="lightenLess" w="21600" h="5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50158">
                <a:moveTo>
                  <a:pt x="21600" y="0"/>
                </a:moveTo>
                <a:lnTo>
                  <a:pt x="21600" y="50158"/>
                </a:lnTo>
                <a:lnTo>
                  <a:pt x="20200" y="48758"/>
                </a:lnTo>
                <a:lnTo>
                  <a:pt x="20200" y="1400"/>
                </a:lnTo>
                <a:close/>
              </a:path>
              <a:path fill="darkenLess" w="21600" h="50158">
                <a:moveTo>
                  <a:pt x="21600" y="50158"/>
                </a:moveTo>
                <a:lnTo>
                  <a:pt x="0" y="50158"/>
                </a:lnTo>
                <a:lnTo>
                  <a:pt x="1400" y="48758"/>
                </a:lnTo>
                <a:lnTo>
                  <a:pt x="20200" y="48758"/>
                </a:lnTo>
                <a:close/>
              </a:path>
              <a:path fill="lighten" w="21600" h="50158">
                <a:moveTo>
                  <a:pt x="0" y="5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4875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94400" y="498600"/>
            <a:ext cx="522000" cy="1773000"/>
          </a:xfrm>
          <a:custGeom>
            <a:avLst/>
            <a:gdLst>
              <a:gd name="textAreaLeft" fmla="*/ 33840 w 522000"/>
              <a:gd name="textAreaRight" fmla="*/ 488160 w 522000"/>
              <a:gd name="textAreaTop" fmla="*/ 33840 h 1773000"/>
              <a:gd name="textAreaBottom" fmla="*/ 1739160 h 1773000"/>
            </a:gdLst>
            <a:ahLst/>
            <a:rect l="textAreaLeft" t="textAreaTop" r="textAreaRight" b="textAreaBottom"/>
            <a:pathLst>
              <a:path w="21600" h="73330">
                <a:moveTo>
                  <a:pt x="0" y="0"/>
                </a:moveTo>
                <a:lnTo>
                  <a:pt x="21600" y="0"/>
                </a:lnTo>
                <a:lnTo>
                  <a:pt x="21600" y="73330"/>
                </a:lnTo>
                <a:lnTo>
                  <a:pt x="0" y="73330"/>
                </a:lnTo>
                <a:close/>
              </a:path>
              <a:path fill="lightenLess" w="21600" h="7333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73330">
                <a:moveTo>
                  <a:pt x="21600" y="0"/>
                </a:moveTo>
                <a:lnTo>
                  <a:pt x="21600" y="73330"/>
                </a:lnTo>
                <a:lnTo>
                  <a:pt x="20200" y="71930"/>
                </a:lnTo>
                <a:lnTo>
                  <a:pt x="20200" y="1400"/>
                </a:lnTo>
                <a:close/>
              </a:path>
              <a:path fill="darkenLess" w="21600" h="73330">
                <a:moveTo>
                  <a:pt x="21600" y="73330"/>
                </a:moveTo>
                <a:lnTo>
                  <a:pt x="0" y="73330"/>
                </a:lnTo>
                <a:lnTo>
                  <a:pt x="1400" y="71930"/>
                </a:lnTo>
                <a:lnTo>
                  <a:pt x="20200" y="71930"/>
                </a:lnTo>
                <a:close/>
              </a:path>
              <a:path fill="lighten" w="21600" h="73330">
                <a:moveTo>
                  <a:pt x="0" y="73330"/>
                </a:moveTo>
                <a:lnTo>
                  <a:pt x="0" y="0"/>
                </a:lnTo>
                <a:lnTo>
                  <a:pt x="1400" y="1400"/>
                </a:lnTo>
                <a:lnTo>
                  <a:pt x="1400" y="7193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8"/>
          <a:srcRect l="0" t="0" r="84169" b="0"/>
          <a:stretch/>
        </p:blipFill>
        <p:spPr>
          <a:xfrm>
            <a:off x="0" y="0"/>
            <a:ext cx="144792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523880" y="0"/>
            <a:ext cx="76201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Pooh"/>
              </a:rPr>
              <a:t>Causes of WWI</a:t>
            </a:r>
            <a:r>
              <a:rPr b="1" lang="en-US" sz="4400" spc="-1" strike="noStrike">
                <a:solidFill>
                  <a:srgbClr val="003366"/>
                </a:solidFill>
                <a:latin typeface="Pooh"/>
              </a:rPr>
              <a:t> -</a:t>
            </a:r>
            <a:r>
              <a:rPr b="1" lang="en-US" sz="4400" spc="-1" strike="noStrike">
                <a:solidFill>
                  <a:srgbClr val="009900"/>
                </a:solidFill>
                <a:latin typeface="Pooh"/>
              </a:rPr>
              <a:t> </a:t>
            </a:r>
            <a:r>
              <a:rPr b="1" lang="en-US" sz="4800" spc="-1" strike="noStrike">
                <a:solidFill>
                  <a:srgbClr val="333399"/>
                </a:solidFill>
                <a:latin typeface="Pooh"/>
              </a:rPr>
              <a:t>N</a:t>
            </a:r>
            <a:r>
              <a:rPr b="0" lang="en-US" sz="3600" spc="-1" strike="noStrike">
                <a:solidFill>
                  <a:srgbClr val="333399"/>
                </a:solidFill>
                <a:latin typeface="Pooh"/>
              </a:rPr>
              <a:t>ationa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rcRect l="0" t="0" r="84169" b="0"/>
          <a:stretch/>
        </p:blipFill>
        <p:spPr>
          <a:xfrm>
            <a:off x="0" y="0"/>
            <a:ext cx="144792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523880" y="0"/>
            <a:ext cx="76201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Pooh"/>
              </a:rPr>
              <a:t>Causes of WWI</a:t>
            </a:r>
            <a:r>
              <a:rPr b="1" lang="en-US" sz="4400" spc="-1" strike="noStrike">
                <a:solidFill>
                  <a:srgbClr val="003366"/>
                </a:solidFill>
                <a:latin typeface="Pooh"/>
              </a:rPr>
              <a:t> -</a:t>
            </a:r>
            <a:r>
              <a:rPr b="1" lang="en-US" sz="4400" spc="-1" strike="noStrike">
                <a:solidFill>
                  <a:srgbClr val="009900"/>
                </a:solidFill>
                <a:latin typeface="Pooh"/>
              </a:rPr>
              <a:t> </a:t>
            </a:r>
            <a:r>
              <a:rPr b="1" lang="en-US" sz="4800" spc="-1" strike="noStrike">
                <a:solidFill>
                  <a:srgbClr val="333399"/>
                </a:solidFill>
                <a:latin typeface="Pooh"/>
              </a:rPr>
              <a:t>N</a:t>
            </a:r>
            <a:r>
              <a:rPr b="0" lang="en-US" sz="3600" spc="-1" strike="noStrike">
                <a:solidFill>
                  <a:srgbClr val="333399"/>
                </a:solidFill>
                <a:latin typeface="Pooh"/>
              </a:rPr>
              <a:t>ationa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114300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an-Germanism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 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ement to unify the people of all German speaking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43200" y="2819520"/>
            <a:ext cx="2362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Austri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Belgium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Denm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Iceland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Germany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Liechtenstei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95880" y="2819520"/>
            <a:ext cx="2667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Luxembourg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Netherland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0"/>
              </a:rPr>
              <a:t>Norway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1"/>
              </a:rPr>
              <a:t>Swede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2"/>
              </a:rPr>
              <a:t>Switzerland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3"/>
              </a:rPr>
              <a:t>United Kingdom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4"/>
          <a:stretch/>
        </p:blipFill>
        <p:spPr>
          <a:xfrm>
            <a:off x="2286000" y="2971800"/>
            <a:ext cx="457200" cy="3049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5"/>
          <a:stretch/>
        </p:blipFill>
        <p:spPr>
          <a:xfrm>
            <a:off x="2286000" y="4724280"/>
            <a:ext cx="476280" cy="2858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6"/>
          <a:stretch/>
        </p:blipFill>
        <p:spPr>
          <a:xfrm>
            <a:off x="2286000" y="5105520"/>
            <a:ext cx="503280" cy="304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7"/>
          <a:stretch/>
        </p:blipFill>
        <p:spPr>
          <a:xfrm>
            <a:off x="5791320" y="4724280"/>
            <a:ext cx="301680" cy="3016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8"/>
          <a:stretch/>
        </p:blipFill>
        <p:spPr>
          <a:xfrm>
            <a:off x="2362320" y="3352680"/>
            <a:ext cx="352440" cy="3049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9"/>
          <a:stretch/>
        </p:blipFill>
        <p:spPr>
          <a:xfrm>
            <a:off x="5638680" y="2971800"/>
            <a:ext cx="476280" cy="2858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0"/>
          <a:stretch/>
        </p:blipFill>
        <p:spPr>
          <a:xfrm>
            <a:off x="5638680" y="3352680"/>
            <a:ext cx="457200" cy="304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1"/>
          <a:stretch/>
        </p:blipFill>
        <p:spPr>
          <a:xfrm>
            <a:off x="2362320" y="3809880"/>
            <a:ext cx="371520" cy="2858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2"/>
          <a:stretch/>
        </p:blipFill>
        <p:spPr>
          <a:xfrm>
            <a:off x="2362320" y="4267080"/>
            <a:ext cx="380880" cy="2764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3"/>
          <a:stretch/>
        </p:blipFill>
        <p:spPr>
          <a:xfrm>
            <a:off x="5715000" y="3886200"/>
            <a:ext cx="380880" cy="276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4"/>
          <a:stretch/>
        </p:blipFill>
        <p:spPr>
          <a:xfrm>
            <a:off x="5638680" y="4267080"/>
            <a:ext cx="466920" cy="2955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5"/>
          <a:stretch/>
        </p:blipFill>
        <p:spPr>
          <a:xfrm>
            <a:off x="5562720" y="5105520"/>
            <a:ext cx="571320" cy="2854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822760" y="5715000"/>
            <a:ext cx="470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German speaking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47920" y="22096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Germanic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>
            <a:hlinkClick r:id="rId1"/>
          </p:cNvPr>
          <p:cNvPicPr/>
          <p:nvPr/>
        </p:nvPicPr>
        <p:blipFill>
          <a:blip r:embed="rId2"/>
          <a:srcRect l="1056" t="6434" r="2111" b="39172"/>
          <a:stretch/>
        </p:blipFill>
        <p:spPr>
          <a:xfrm>
            <a:off x="268200" y="-1440"/>
            <a:ext cx="8875800" cy="68594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rcRect l="2506" t="77294" r="86242" b="21123"/>
          <a:stretch/>
        </p:blipFill>
        <p:spPr>
          <a:xfrm>
            <a:off x="5487840" y="6148440"/>
            <a:ext cx="3656160" cy="7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02:31:23Z</dcterms:created>
  <dc:creator>Adam Berlin</dc:creator>
  <dc:description/>
  <dc:language>en-US</dc:language>
  <cp:lastModifiedBy>nbdoe</cp:lastModifiedBy>
  <dcterms:modified xsi:type="dcterms:W3CDTF">2009-11-10T19:29:39Z</dcterms:modified>
  <cp:revision>48</cp:revision>
  <dc:subject/>
  <dc:title>Slide 1</dc:title>
</cp:coreProperties>
</file>