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83B-7671-49F3-8618-BA7C416D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ECA-AB07-4E3A-BBEA-B9410C60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E03-B03D-4769-9499-F8320997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BDF-D17A-472A-B704-E5551C01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FD9-0F34-4517-B905-273B08C3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34C-03FF-4742-BD9D-DAE0239E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D01-C815-4AC3-BB33-94A2306A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DB5-6AE7-4A0C-8490-33FA0CEE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002-36C8-4C2E-98D1-ED73199E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FCC-0DD4-4C20-9F81-F117C076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FAF-B632-430C-AB92-CF68EE7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889-8608-49A4-B46A-5801C85D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72E8-2A74-496B-BE4D-CC5EEB6DB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vtc.gov/lotw/months/december/images/SlavicLanguagesMap.jpg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rldmapsonline.com/UnivHist/30335_6.gif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yno.edu/~seduffy/MapImages/Austria-Hungary1867-display.jpg" TargetMode="External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rstworldwar.com/origins/causes.htm" TargetMode="External"/><Relationship Id="rId3" Type="http://schemas.openxmlformats.org/officeDocument/2006/relationships/hyperlink" Target="http://www.historyonthenet.com/WW1/causes.htm#Militarism" TargetMode="External"/><Relationship Id="rId4" Type="http://schemas.openxmlformats.org/officeDocument/2006/relationships/hyperlink" Target="http://www.historyonthenet.com/WW1/causes.htm#Militarism" TargetMode="External"/><Relationship Id="rId5" Type="http://schemas.openxmlformats.org/officeDocument/2006/relationships/hyperlink" Target="http://www.historyonthenet.com/WW1/causes.htm#Alliances" TargetMode="External"/><Relationship Id="rId6" Type="http://schemas.openxmlformats.org/officeDocument/2006/relationships/hyperlink" Target="http://www.historyonthenet.com/WW1/causes.htm#Nationalism" TargetMode="External"/><Relationship Id="rId7" Type="http://schemas.openxmlformats.org/officeDocument/2006/relationships/hyperlink" Target="http://www.historyonthenet.com/WW1/causes.htm#Imperialism" TargetMode="Externa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3.png"/><Relationship Id="rId7" Type="http://schemas.openxmlformats.org/officeDocument/2006/relationships/image" Target="../media/image9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ssumption.edu/users/mcclymer/His130/P-H/burden/mapimperialismafrica.jp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ome.uchicago.edu/~vfalbrit/wckeywords_clip_image002_0002.jp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tt.edu/~dash/northlinks.html#austria" TargetMode="External"/><Relationship Id="rId3" Type="http://schemas.openxmlformats.org/officeDocument/2006/relationships/hyperlink" Target="http://www.pitt.edu/~dash/northlinks.html#belgium" TargetMode="External"/><Relationship Id="rId4" Type="http://schemas.openxmlformats.org/officeDocument/2006/relationships/hyperlink" Target="http://www.pitt.edu/~dash/northlinks.html#denmark" TargetMode="External"/><Relationship Id="rId5" Type="http://schemas.openxmlformats.org/officeDocument/2006/relationships/hyperlink" Target="http://www.pitt.edu/~dash/northlinks.html#iceland" TargetMode="External"/><Relationship Id="rId6" Type="http://schemas.openxmlformats.org/officeDocument/2006/relationships/hyperlink" Target="http://www.pitt.edu/~dash/northlinks.html#germany" TargetMode="External"/><Relationship Id="rId7" Type="http://schemas.openxmlformats.org/officeDocument/2006/relationships/hyperlink" Target="http://www.pitt.edu/~dash/northlinks.html#liechtenstein" TargetMode="External"/><Relationship Id="rId8" Type="http://schemas.openxmlformats.org/officeDocument/2006/relationships/hyperlink" Target="http://www.pitt.edu/~dash/northlinks.html#luxembourg" TargetMode="External"/><Relationship Id="rId9" Type="http://schemas.openxmlformats.org/officeDocument/2006/relationships/hyperlink" Target="http://www.pitt.edu/~dash/northlinks.html#netherlands" TargetMode="External"/><Relationship Id="rId10" Type="http://schemas.openxmlformats.org/officeDocument/2006/relationships/hyperlink" Target="http://www.pitt.edu/~dash/northlinks.html#norway" TargetMode="External"/><Relationship Id="rId11" Type="http://schemas.openxmlformats.org/officeDocument/2006/relationships/hyperlink" Target="http://www.pitt.edu/~dash/northlinks.html#sweden" TargetMode="External"/><Relationship Id="rId12" Type="http://schemas.openxmlformats.org/officeDocument/2006/relationships/hyperlink" Target="http://www.pitt.edu/~dash/northlinks.html#switzerland" TargetMode="External"/><Relationship Id="rId13" Type="http://schemas.openxmlformats.org/officeDocument/2006/relationships/hyperlink" Target="http://www.pitt.edu/~dash/northlinks.html#unitedkingdom" TargetMode="External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algal.com/graphics/PUR/Eurethnic.jpg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alyze the causes of World War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144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are some holidays where people celebrate pride in their national heri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7400" y="2295360"/>
            <a:ext cx="6399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990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Slav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all of the Slavic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106720"/>
            <a:ext cx="6399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0" lang="en-US" sz="3600" spc="-1" strike="noStrike">
                <a:solidFill>
                  <a:srgbClr val="cc0066"/>
                </a:solidFill>
                <a:latin typeface="Pooh"/>
              </a:rPr>
              <a:t>mper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rcRect l="0" t="9904" r="6483" b="16002"/>
          <a:stretch/>
        </p:blipFill>
        <p:spPr>
          <a:xfrm>
            <a:off x="1450800" y="762120"/>
            <a:ext cx="7693200" cy="6095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5601" t="72015" r="74094" b="16002"/>
          <a:stretch/>
        </p:blipFill>
        <p:spPr>
          <a:xfrm>
            <a:off x="1447920" y="5030640"/>
            <a:ext cx="30985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0" lang="en-US" sz="3600" spc="-1" strike="noStrike">
                <a:solidFill>
                  <a:srgbClr val="cc0066"/>
                </a:solidFill>
                <a:latin typeface="Pooh"/>
              </a:rPr>
              <a:t>mper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rcRect l="0" t="20472" r="0" b="24662"/>
          <a:stretch/>
        </p:blipFill>
        <p:spPr>
          <a:xfrm>
            <a:off x="1447920" y="1066680"/>
            <a:ext cx="7696080" cy="5105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rcRect l="63370" t="1639" r="4952" b="80350"/>
          <a:stretch/>
        </p:blipFill>
        <p:spPr>
          <a:xfrm>
            <a:off x="1447920" y="51814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67080" y="761760"/>
            <a:ext cx="464832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The</a:t>
            </a:r>
            <a:br>
              <a:rPr sz="9800"/>
            </a:br>
            <a:br>
              <a:rPr sz="9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“Spark”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743200" y="914400"/>
            <a:ext cx="5484960" cy="488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47920" y="5911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rchduke Franz Ferdinand and Duchess Sophie at Sarajevo, Bosnia, on June 28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19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0" t="20472" r="0" b="24662"/>
          <a:stretch/>
        </p:blipFill>
        <p:spPr>
          <a:xfrm>
            <a:off x="1447920" y="1066680"/>
            <a:ext cx="7696080" cy="5105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rcRect l="63370" t="1639" r="4952" b="80350"/>
          <a:stretch/>
        </p:blipFill>
        <p:spPr>
          <a:xfrm>
            <a:off x="1447920" y="518148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rcRect l="11240" t="0" r="17111" b="0"/>
          <a:stretch/>
        </p:blipFill>
        <p:spPr>
          <a:xfrm>
            <a:off x="4648320" y="2057400"/>
            <a:ext cx="612720" cy="919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0" y="2819520"/>
            <a:ext cx="990720" cy="2666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8844E-006 L 0.10816 0.42151 E">
                                      <p:cBhvr>
                                        <p:cTn id="158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505320" y="1143000"/>
            <a:ext cx="5638680" cy="538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990720"/>
            <a:ext cx="2133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ustrian Archduke Franz Ferdinand was killed in Bosnia by a Serbian nationalist who believed that Bosnia should belong to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4385" t="4107" r="2444" b="10959"/>
          <a:stretch/>
        </p:blipFill>
        <p:spPr>
          <a:xfrm>
            <a:off x="1447920" y="1584360"/>
            <a:ext cx="4114800" cy="3292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19920" y="3809880"/>
            <a:ext cx="3124080" cy="304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4876920" y="2895480"/>
            <a:ext cx="1904760" cy="1905120"/>
          </a:xfrm>
          <a:prstGeom prst="line">
            <a:avLst/>
          </a:prstGeom>
          <a:ln cap="sq" w="5724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6002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avrilo Princip after his assassination of Austrian Archduke Franz Ferdin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294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 blamed Serbia for Ferdinand’s death and declared war on Serb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362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819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pledged their support for Austria -Hunga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German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267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 pledged their support for Serbia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Slavic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58672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1371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Rus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057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6840" y="251388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pledges their support for Russi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51160" y="365688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9000" y="4723560"/>
            <a:ext cx="72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invades Belgium on the way to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3200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267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5410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3640" y="382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91156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 supports Belgium and declares war on German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Pooh"/>
                <a:hlinkClick r:id="rId2"/>
              </a:rPr>
              <a:t>Causes of World War 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ooh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736560"/>
            <a:ext cx="6094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Pooh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Pooh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Pooh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8380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litarism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– policy of building up strong military forces to prepare for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05704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llianc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between nations to aid and protect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3276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ation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ride in or devotion to one’s cou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495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mperialis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when one country takes over another country economically and pol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1" lang="en-US" sz="3200" spc="-1" strike="noStrike">
                <a:solidFill>
                  <a:srgbClr val="006600"/>
                </a:solidFill>
                <a:latin typeface="Pooh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Pooh"/>
              </a:rPr>
              <a:t>N</a:t>
            </a:r>
            <a:r>
              <a:rPr b="1" lang="en-US" sz="32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1" lang="en-US" sz="3200" spc="-1" strike="noStrike">
                <a:solidFill>
                  <a:srgbClr val="663300"/>
                </a:solidFill>
                <a:latin typeface="Pooh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1719000" cy="1145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752480" y="1066680"/>
            <a:ext cx="1746360" cy="1141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rcRect l="1617" t="0" r="1617" b="0"/>
          <a:stretch/>
        </p:blipFill>
        <p:spPr>
          <a:xfrm>
            <a:off x="6705720" y="2590920"/>
            <a:ext cx="166824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6705720" y="914400"/>
            <a:ext cx="1747800" cy="114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86200" y="1676520"/>
            <a:ext cx="2438280" cy="289548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orld Wa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Allied Powers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Central Powers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705720" y="4114800"/>
            <a:ext cx="172548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715000"/>
            <a:ext cx="17478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0020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13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3733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5257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57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2133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312408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1523880"/>
            <a:ext cx="0" cy="4800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171840" y="312408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12952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0"/>
            <a:ext cx="735804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1752480"/>
            <a:ext cx="685800" cy="2133720"/>
          </a:xfrm>
          <a:prstGeom prst="rect">
            <a:avLst/>
          </a:prstGeom>
          <a:solidFill>
            <a:srgbClr val="ddd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438280" cy="1800360"/>
          </a:xfrm>
          <a:prstGeom prst="rect">
            <a:avLst/>
          </a:prstGeom>
          <a:solidFill>
            <a:srgbClr val="ddd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erialism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uropean conquest of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47920" y="3843360"/>
          <a:ext cx="7695720" cy="3014640"/>
        </p:xfrm>
        <a:graphic>
          <a:graphicData uri="http://schemas.openxmlformats.org/drawingml/2006/table">
            <a:tbl>
              <a:tblPr/>
              <a:tblGrid>
                <a:gridCol w="2308680"/>
                <a:gridCol w="5387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</a:rPr>
                        <a:t>1910-1914 Increase in Defense Expendit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0" lang="en-US" sz="3600" spc="-1" strike="noStrike">
                <a:solidFill>
                  <a:srgbClr val="cc3300"/>
                </a:solidFill>
                <a:latin typeface="Pooh"/>
              </a:rPr>
              <a:t>ilita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3880" y="2362320"/>
          <a:ext cx="7619760" cy="110016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447920" y="7621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Total Defense Expenditures for the Great Powers [Ger., A-H, It., Fr., Br., Rus.] </a:t>
            </a:r>
            <a:br>
              <a:rPr sz="2800"/>
            </a:b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in millions of £s (British poun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76520" y="53341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676520" y="16765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rcRect l="1617" t="0" r="1617" b="0"/>
          <a:stretch/>
        </p:blipFill>
        <p:spPr>
          <a:xfrm>
            <a:off x="6705720" y="3505320"/>
            <a:ext cx="1981080" cy="13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705720" y="175248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334120"/>
            <a:ext cx="1981080" cy="1295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62520" y="4191120"/>
            <a:ext cx="30456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286000"/>
            <a:ext cx="0" cy="3657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95520" y="419112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3124080"/>
            <a:ext cx="1600200" cy="198144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76212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Triple Entente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76212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Triple Alliance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22096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009900"/>
                </a:solidFill>
                <a:latin typeface="Pooh"/>
              </a:rPr>
              <a:t>ll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1295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3048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4876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124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876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/>
          </p:cNvPr>
          <p:cNvPicPr/>
          <p:nvPr/>
        </p:nvPicPr>
        <p:blipFill>
          <a:blip r:embed="rId2"/>
          <a:srcRect l="0" t="0" r="0" b="8820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35200" y="2806560"/>
            <a:ext cx="2786040" cy="106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82920" y="2554200"/>
            <a:ext cx="3483000" cy="177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330280" y="2301840"/>
            <a:ext cx="4178520" cy="2481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178000" y="2050920"/>
            <a:ext cx="4875120" cy="3189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025720" y="1797120"/>
            <a:ext cx="5572080" cy="390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873080" y="1546200"/>
            <a:ext cx="626760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1523880" y="99072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8" action="ppaction://hlinksldjump"/>
          </p:cNvPr>
          <p:cNvSpPr/>
          <p:nvPr/>
        </p:nvSpPr>
        <p:spPr>
          <a:xfrm>
            <a:off x="1420920" y="-76320"/>
            <a:ext cx="1474560" cy="1967040"/>
          </a:xfrm>
          <a:custGeom>
            <a:avLst/>
            <a:gdLst>
              <a:gd name="textAreaLeft" fmla="*/ 95400 w 1474560"/>
              <a:gd name="textAreaRight" fmla="*/ 1379160 w 1474560"/>
              <a:gd name="textAreaTop" fmla="*/ 95400 h 1967040"/>
              <a:gd name="textAreaBottom" fmla="*/ 1871640 h 196704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9" action="ppaction://hlinksldjump"/>
          </p:cNvPr>
          <p:cNvSpPr/>
          <p:nvPr/>
        </p:nvSpPr>
        <p:spPr>
          <a:xfrm>
            <a:off x="6078600" y="561960"/>
            <a:ext cx="1984320" cy="2776680"/>
          </a:xfrm>
          <a:custGeom>
            <a:avLst/>
            <a:gdLst>
              <a:gd name="textAreaLeft" fmla="*/ 128520 w 1984320"/>
              <a:gd name="textAreaRight" fmla="*/ 1855800 w 1984320"/>
              <a:gd name="textAreaTop" fmla="*/ 128520 h 2776680"/>
              <a:gd name="textAreaBottom" fmla="*/ 2648160 h 2776680"/>
            </a:gdLst>
            <a:ahLst/>
            <a:rect l="textAreaLeft" t="textAreaTop" r="textAreaRight" b="textAreaBottom"/>
            <a:pathLst>
              <a:path w="21600" h="30224">
                <a:moveTo>
                  <a:pt x="0" y="0"/>
                </a:moveTo>
                <a:lnTo>
                  <a:pt x="21600" y="0"/>
                </a:lnTo>
                <a:lnTo>
                  <a:pt x="21600" y="30224"/>
                </a:lnTo>
                <a:lnTo>
                  <a:pt x="0" y="30224"/>
                </a:lnTo>
                <a:close/>
              </a:path>
              <a:path fill="lightenLess" w="21600" h="302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4">
                <a:moveTo>
                  <a:pt x="21600" y="0"/>
                </a:moveTo>
                <a:lnTo>
                  <a:pt x="21600" y="30224"/>
                </a:lnTo>
                <a:lnTo>
                  <a:pt x="20200" y="28824"/>
                </a:lnTo>
                <a:lnTo>
                  <a:pt x="20200" y="1400"/>
                </a:lnTo>
                <a:close/>
              </a:path>
              <a:path fill="darkenLess" w="21600" h="30224">
                <a:moveTo>
                  <a:pt x="21600" y="30224"/>
                </a:moveTo>
                <a:lnTo>
                  <a:pt x="0" y="30224"/>
                </a:lnTo>
                <a:lnTo>
                  <a:pt x="1400" y="28824"/>
                </a:lnTo>
                <a:lnTo>
                  <a:pt x="20200" y="28824"/>
                </a:lnTo>
                <a:close/>
              </a:path>
              <a:path fill="lighten" w="21600" h="30224">
                <a:moveTo>
                  <a:pt x="0" y="302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914400" y="2725560"/>
            <a:ext cx="1289160" cy="1832040"/>
          </a:xfrm>
          <a:custGeom>
            <a:avLst/>
            <a:gdLst>
              <a:gd name="textAreaLeft" fmla="*/ 83520 w 1289160"/>
              <a:gd name="textAreaRight" fmla="*/ 1205640 w 1289160"/>
              <a:gd name="textAreaTop" fmla="*/ 83520 h 1832040"/>
              <a:gd name="textAreaBottom" fmla="*/ 1748520 h 1832040"/>
            </a:gdLst>
            <a:ahLst/>
            <a:rect l="textAreaLeft" t="textAreaTop" r="textAreaRight" b="textAreaBottom"/>
            <a:pathLst>
              <a:path w="21600" h="30693">
                <a:moveTo>
                  <a:pt x="0" y="0"/>
                </a:moveTo>
                <a:lnTo>
                  <a:pt x="21600" y="0"/>
                </a:lnTo>
                <a:lnTo>
                  <a:pt x="21600" y="30693"/>
                </a:lnTo>
                <a:lnTo>
                  <a:pt x="0" y="30693"/>
                </a:lnTo>
                <a:close/>
              </a:path>
              <a:path fill="lightenLess" w="21600" h="30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93">
                <a:moveTo>
                  <a:pt x="21600" y="0"/>
                </a:moveTo>
                <a:lnTo>
                  <a:pt x="21600" y="30693"/>
                </a:lnTo>
                <a:lnTo>
                  <a:pt x="20200" y="29294"/>
                </a:lnTo>
                <a:lnTo>
                  <a:pt x="20200" y="1400"/>
                </a:lnTo>
                <a:close/>
              </a:path>
              <a:path fill="darkenLess" w="21600" h="30693">
                <a:moveTo>
                  <a:pt x="21600" y="30693"/>
                </a:moveTo>
                <a:lnTo>
                  <a:pt x="0" y="30693"/>
                </a:lnTo>
                <a:lnTo>
                  <a:pt x="1400" y="29294"/>
                </a:lnTo>
                <a:lnTo>
                  <a:pt x="20200" y="29294"/>
                </a:lnTo>
                <a:close/>
              </a:path>
              <a:path fill="lighten" w="21600" h="30693">
                <a:moveTo>
                  <a:pt x="0" y="30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1" action="ppaction://hlinksldjump"/>
          </p:cNvPr>
          <p:cNvSpPr/>
          <p:nvPr/>
        </p:nvSpPr>
        <p:spPr>
          <a:xfrm>
            <a:off x="6599160" y="5195880"/>
            <a:ext cx="1393920" cy="1417680"/>
          </a:xfrm>
          <a:custGeom>
            <a:avLst/>
            <a:gdLst>
              <a:gd name="textAreaLeft" fmla="*/ 90360 w 1393920"/>
              <a:gd name="textAreaRight" fmla="*/ 1303560 w 1393920"/>
              <a:gd name="textAreaTop" fmla="*/ 90360 h 1417680"/>
              <a:gd name="textAreaBottom" fmla="*/ 1327320 h 1417680"/>
            </a:gdLst>
            <a:ahLst/>
            <a:rect l="textAreaLeft" t="textAreaTop" r="textAreaRight" b="textAreaBottom"/>
            <a:pathLst>
              <a:path w="21600" h="21968">
                <a:moveTo>
                  <a:pt x="0" y="0"/>
                </a:moveTo>
                <a:lnTo>
                  <a:pt x="21600" y="0"/>
                </a:lnTo>
                <a:lnTo>
                  <a:pt x="21600" y="21968"/>
                </a:lnTo>
                <a:lnTo>
                  <a:pt x="0" y="21968"/>
                </a:lnTo>
                <a:close/>
              </a:path>
              <a:path fill="lightenLess" w="21600" h="219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8">
                <a:moveTo>
                  <a:pt x="21600" y="0"/>
                </a:moveTo>
                <a:lnTo>
                  <a:pt x="21600" y="21968"/>
                </a:lnTo>
                <a:lnTo>
                  <a:pt x="20200" y="20568"/>
                </a:lnTo>
                <a:lnTo>
                  <a:pt x="20200" y="1400"/>
                </a:lnTo>
                <a:close/>
              </a:path>
              <a:path fill="darkenLess" w="21600" h="21968">
                <a:moveTo>
                  <a:pt x="21600" y="21968"/>
                </a:moveTo>
                <a:lnTo>
                  <a:pt x="0" y="21968"/>
                </a:lnTo>
                <a:lnTo>
                  <a:pt x="1400" y="20568"/>
                </a:lnTo>
                <a:lnTo>
                  <a:pt x="20200" y="20568"/>
                </a:lnTo>
                <a:close/>
              </a:path>
              <a:path fill="lighten" w="21600" h="21968">
                <a:moveTo>
                  <a:pt x="0" y="219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2" action="ppaction://hlinksldjump"/>
          </p:cNvPr>
          <p:cNvSpPr/>
          <p:nvPr/>
        </p:nvSpPr>
        <p:spPr>
          <a:xfrm>
            <a:off x="2916360" y="4140360"/>
            <a:ext cx="987480" cy="2246040"/>
          </a:xfrm>
          <a:custGeom>
            <a:avLst/>
            <a:gdLst>
              <a:gd name="textAreaLeft" fmla="*/ 63720 w 987480"/>
              <a:gd name="textAreaRight" fmla="*/ 923760 w 987480"/>
              <a:gd name="textAreaTop" fmla="*/ 63720 h 2246040"/>
              <a:gd name="textAreaBottom" fmla="*/ 2182320 h 2246040"/>
            </a:gdLst>
            <a:ahLst/>
            <a:rect l="textAreaLeft" t="textAreaTop" r="textAreaRight" b="textAreaBottom"/>
            <a:pathLst>
              <a:path w="21600" h="49120">
                <a:moveTo>
                  <a:pt x="0" y="0"/>
                </a:moveTo>
                <a:lnTo>
                  <a:pt x="21600" y="0"/>
                </a:lnTo>
                <a:lnTo>
                  <a:pt x="21600" y="49120"/>
                </a:lnTo>
                <a:lnTo>
                  <a:pt x="0" y="49120"/>
                </a:lnTo>
                <a:close/>
              </a:path>
              <a:path fill="lightenLess" w="21600" h="491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120">
                <a:moveTo>
                  <a:pt x="21600" y="0"/>
                </a:moveTo>
                <a:lnTo>
                  <a:pt x="21600" y="49120"/>
                </a:lnTo>
                <a:lnTo>
                  <a:pt x="20200" y="47720"/>
                </a:lnTo>
                <a:lnTo>
                  <a:pt x="20200" y="1400"/>
                </a:lnTo>
                <a:close/>
              </a:path>
              <a:path fill="darkenLess" w="21600" h="49120">
                <a:moveTo>
                  <a:pt x="21600" y="49120"/>
                </a:moveTo>
                <a:lnTo>
                  <a:pt x="0" y="49120"/>
                </a:lnTo>
                <a:lnTo>
                  <a:pt x="1400" y="47720"/>
                </a:lnTo>
                <a:lnTo>
                  <a:pt x="20200" y="47720"/>
                </a:lnTo>
                <a:close/>
              </a:path>
              <a:path fill="lighten" w="21600" h="49120">
                <a:moveTo>
                  <a:pt x="0" y="4912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7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3" action="ppaction://hlinksldjump"/>
          </p:cNvPr>
          <p:cNvSpPr/>
          <p:nvPr/>
        </p:nvSpPr>
        <p:spPr>
          <a:xfrm>
            <a:off x="4465800" y="3660840"/>
            <a:ext cx="1218960" cy="592200"/>
          </a:xfrm>
          <a:custGeom>
            <a:avLst/>
            <a:gdLst>
              <a:gd name="textAreaLeft" fmla="*/ 38160 w 1218960"/>
              <a:gd name="textAreaRight" fmla="*/ 1180800 w 1218960"/>
              <a:gd name="textAreaTop" fmla="*/ 38160 h 592200"/>
              <a:gd name="textAreaBottom" fmla="*/ 554040 h 592200"/>
            </a:gdLst>
            <a:ahLst/>
            <a:rect l="textAreaLeft" t="textAreaTop" r="textAreaRight" b="textAreaBottom"/>
            <a:pathLst>
              <a:path w="44447" h="21600">
                <a:moveTo>
                  <a:pt x="0" y="0"/>
                </a:moveTo>
                <a:lnTo>
                  <a:pt x="44447" y="0"/>
                </a:lnTo>
                <a:lnTo>
                  <a:pt x="44447" y="21600"/>
                </a:lnTo>
                <a:lnTo>
                  <a:pt x="0" y="21600"/>
                </a:lnTo>
                <a:close/>
              </a:path>
              <a:path fill="lightenLess" w="44447" h="21600">
                <a:moveTo>
                  <a:pt x="0" y="0"/>
                </a:moveTo>
                <a:lnTo>
                  <a:pt x="44447" y="0"/>
                </a:lnTo>
                <a:lnTo>
                  <a:pt x="43047" y="1400"/>
                </a:lnTo>
                <a:lnTo>
                  <a:pt x="1400" y="1400"/>
                </a:lnTo>
                <a:close/>
              </a:path>
              <a:path fill="darken" w="44447" h="21600">
                <a:moveTo>
                  <a:pt x="44447" y="0"/>
                </a:moveTo>
                <a:lnTo>
                  <a:pt x="44447" y="21600"/>
                </a:lnTo>
                <a:lnTo>
                  <a:pt x="43047" y="20200"/>
                </a:lnTo>
                <a:lnTo>
                  <a:pt x="43047" y="1400"/>
                </a:lnTo>
                <a:close/>
              </a:path>
              <a:path fill="darkenLess" w="44447" h="21600">
                <a:moveTo>
                  <a:pt x="44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47" y="20200"/>
                </a:lnTo>
                <a:close/>
              </a:path>
              <a:path fill="lighten" w="44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4" action="ppaction://hlinksldjump"/>
          </p:cNvPr>
          <p:cNvSpPr/>
          <p:nvPr/>
        </p:nvSpPr>
        <p:spPr>
          <a:xfrm>
            <a:off x="3957480" y="2629080"/>
            <a:ext cx="928800" cy="709560"/>
          </a:xfrm>
          <a:custGeom>
            <a:avLst/>
            <a:gdLst>
              <a:gd name="textAreaLeft" fmla="*/ 45720 w 928800"/>
              <a:gd name="textAreaRight" fmla="*/ 883080 w 92880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8271" h="21600">
                <a:moveTo>
                  <a:pt x="0" y="0"/>
                </a:moveTo>
                <a:lnTo>
                  <a:pt x="28271" y="0"/>
                </a:lnTo>
                <a:lnTo>
                  <a:pt x="28271" y="21600"/>
                </a:lnTo>
                <a:lnTo>
                  <a:pt x="0" y="21600"/>
                </a:lnTo>
                <a:close/>
              </a:path>
              <a:path fill="lightenLess" w="28271" h="21600">
                <a:moveTo>
                  <a:pt x="0" y="0"/>
                </a:moveTo>
                <a:lnTo>
                  <a:pt x="28271" y="0"/>
                </a:lnTo>
                <a:lnTo>
                  <a:pt x="26871" y="1400"/>
                </a:lnTo>
                <a:lnTo>
                  <a:pt x="1400" y="1400"/>
                </a:lnTo>
                <a:close/>
              </a:path>
              <a:path fill="darken" w="28271" h="21600">
                <a:moveTo>
                  <a:pt x="28271" y="0"/>
                </a:moveTo>
                <a:lnTo>
                  <a:pt x="28271" y="21600"/>
                </a:lnTo>
                <a:lnTo>
                  <a:pt x="26871" y="20200"/>
                </a:lnTo>
                <a:lnTo>
                  <a:pt x="26871" y="1400"/>
                </a:lnTo>
                <a:close/>
              </a:path>
              <a:path fill="darkenLess" w="28271" h="21600">
                <a:moveTo>
                  <a:pt x="2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1" y="20200"/>
                </a:lnTo>
                <a:close/>
              </a:path>
              <a:path fill="lighten" w="2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5" action="ppaction://hlinksldjump"/>
          </p:cNvPr>
          <p:cNvSpPr/>
          <p:nvPr/>
        </p:nvSpPr>
        <p:spPr>
          <a:xfrm>
            <a:off x="3043080" y="3000240"/>
            <a:ext cx="406440" cy="41436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414360"/>
              <a:gd name="textAreaBottom" fmla="*/ 388080 h 414360"/>
            </a:gdLst>
            <a:ahLst/>
            <a:rect l="textAreaLeft" t="textAreaTop" r="textAreaRight" b="textAreaBottom"/>
            <a:pathLst>
              <a:path w="21600" h="22021">
                <a:moveTo>
                  <a:pt x="0" y="0"/>
                </a:moveTo>
                <a:lnTo>
                  <a:pt x="21600" y="0"/>
                </a:lnTo>
                <a:lnTo>
                  <a:pt x="21600" y="22021"/>
                </a:lnTo>
                <a:lnTo>
                  <a:pt x="0" y="22021"/>
                </a:lnTo>
                <a:close/>
              </a:path>
              <a:path fill="lightenLess" w="21600" h="22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21">
                <a:moveTo>
                  <a:pt x="21600" y="0"/>
                </a:moveTo>
                <a:lnTo>
                  <a:pt x="21600" y="22021"/>
                </a:lnTo>
                <a:lnTo>
                  <a:pt x="20200" y="20621"/>
                </a:lnTo>
                <a:lnTo>
                  <a:pt x="20200" y="1400"/>
                </a:lnTo>
                <a:close/>
              </a:path>
              <a:path fill="darkenLess" w="21600" h="22021">
                <a:moveTo>
                  <a:pt x="21600" y="22021"/>
                </a:moveTo>
                <a:lnTo>
                  <a:pt x="0" y="22021"/>
                </a:lnTo>
                <a:lnTo>
                  <a:pt x="1400" y="20621"/>
                </a:lnTo>
                <a:lnTo>
                  <a:pt x="20200" y="20621"/>
                </a:lnTo>
                <a:close/>
              </a:path>
              <a:path fill="lighten" w="21600" h="22021">
                <a:moveTo>
                  <a:pt x="0" y="22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2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6" action="ppaction://hlinksldjump"/>
          </p:cNvPr>
          <p:cNvSpPr/>
          <p:nvPr/>
        </p:nvSpPr>
        <p:spPr>
          <a:xfrm>
            <a:off x="4846680" y="4603680"/>
            <a:ext cx="522360" cy="94464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944640"/>
              <a:gd name="textAreaBottom" fmla="*/ 910800 h 944640"/>
            </a:gdLst>
            <a:ahLst/>
            <a:rect l="textAreaLeft" t="textAreaTop" r="textAreaRight" b="textAreaBottom"/>
            <a:pathLst>
              <a:path w="21600" h="39050">
                <a:moveTo>
                  <a:pt x="0" y="0"/>
                </a:moveTo>
                <a:lnTo>
                  <a:pt x="21600" y="0"/>
                </a:lnTo>
                <a:lnTo>
                  <a:pt x="21600" y="39050"/>
                </a:lnTo>
                <a:lnTo>
                  <a:pt x="0" y="39050"/>
                </a:lnTo>
                <a:close/>
              </a:path>
              <a:path fill="lightenLess" w="21600" h="39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050">
                <a:moveTo>
                  <a:pt x="21600" y="0"/>
                </a:moveTo>
                <a:lnTo>
                  <a:pt x="21600" y="39050"/>
                </a:lnTo>
                <a:lnTo>
                  <a:pt x="20200" y="37650"/>
                </a:lnTo>
                <a:lnTo>
                  <a:pt x="20200" y="1400"/>
                </a:lnTo>
                <a:close/>
              </a:path>
              <a:path fill="darkenLess" w="21600" h="39050">
                <a:moveTo>
                  <a:pt x="21600" y="39050"/>
                </a:moveTo>
                <a:lnTo>
                  <a:pt x="0" y="39050"/>
                </a:lnTo>
                <a:lnTo>
                  <a:pt x="1400" y="37650"/>
                </a:lnTo>
                <a:lnTo>
                  <a:pt x="20200" y="37650"/>
                </a:lnTo>
                <a:close/>
              </a:path>
              <a:path fill="lighten" w="21600" h="39050">
                <a:moveTo>
                  <a:pt x="0" y="39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376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7" action="ppaction://hlinksldjump"/>
          </p:cNvPr>
          <p:cNvSpPr/>
          <p:nvPr/>
        </p:nvSpPr>
        <p:spPr>
          <a:xfrm>
            <a:off x="3017880" y="1386000"/>
            <a:ext cx="1568520" cy="885600"/>
          </a:xfrm>
          <a:custGeom>
            <a:avLst/>
            <a:gdLst>
              <a:gd name="textAreaLeft" fmla="*/ 57240 w 1568520"/>
              <a:gd name="textAreaRight" fmla="*/ 1511280 w 1568520"/>
              <a:gd name="textAreaTop" fmla="*/ 57240 h 885600"/>
              <a:gd name="textAreaBottom" fmla="*/ 828360 h 885600"/>
            </a:gdLst>
            <a:ahLst/>
            <a:rect l="textAreaLeft" t="textAreaTop" r="textAreaRight" b="textAreaBottom"/>
            <a:pathLst>
              <a:path w="38250" h="21600">
                <a:moveTo>
                  <a:pt x="0" y="0"/>
                </a:moveTo>
                <a:lnTo>
                  <a:pt x="38250" y="0"/>
                </a:lnTo>
                <a:lnTo>
                  <a:pt x="38250" y="21600"/>
                </a:lnTo>
                <a:lnTo>
                  <a:pt x="0" y="21600"/>
                </a:lnTo>
                <a:close/>
              </a:path>
              <a:path fill="lightenLess" w="38250" h="21600">
                <a:moveTo>
                  <a:pt x="0" y="0"/>
                </a:moveTo>
                <a:lnTo>
                  <a:pt x="38250" y="0"/>
                </a:lnTo>
                <a:lnTo>
                  <a:pt x="36850" y="1400"/>
                </a:lnTo>
                <a:lnTo>
                  <a:pt x="1400" y="1400"/>
                </a:lnTo>
                <a:close/>
              </a:path>
              <a:path fill="darken" w="38250" h="21600">
                <a:moveTo>
                  <a:pt x="38250" y="0"/>
                </a:moveTo>
                <a:lnTo>
                  <a:pt x="38250" y="21600"/>
                </a:lnTo>
                <a:lnTo>
                  <a:pt x="36850" y="20200"/>
                </a:lnTo>
                <a:lnTo>
                  <a:pt x="36850" y="1400"/>
                </a:lnTo>
                <a:close/>
              </a:path>
              <a:path fill="darkenLess" w="38250" h="21600">
                <a:moveTo>
                  <a:pt x="38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50" y="20200"/>
                </a:lnTo>
                <a:close/>
              </a:path>
              <a:path fill="lighten" w="38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35120" y="2449440"/>
            <a:ext cx="987480" cy="355680"/>
          </a:xfrm>
          <a:custGeom>
            <a:avLst/>
            <a:gdLst>
              <a:gd name="textAreaLeft" fmla="*/ 23040 w 987480"/>
              <a:gd name="textAreaRight" fmla="*/ 964440 w 98748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59930" h="21600">
                <a:moveTo>
                  <a:pt x="0" y="0"/>
                </a:moveTo>
                <a:lnTo>
                  <a:pt x="59930" y="0"/>
                </a:lnTo>
                <a:lnTo>
                  <a:pt x="59930" y="21600"/>
                </a:lnTo>
                <a:lnTo>
                  <a:pt x="0" y="21600"/>
                </a:lnTo>
                <a:close/>
              </a:path>
              <a:path fill="lightenLess" w="59930" h="21600">
                <a:moveTo>
                  <a:pt x="0" y="0"/>
                </a:moveTo>
                <a:lnTo>
                  <a:pt x="59930" y="0"/>
                </a:lnTo>
                <a:lnTo>
                  <a:pt x="58530" y="1400"/>
                </a:lnTo>
                <a:lnTo>
                  <a:pt x="1400" y="1400"/>
                </a:lnTo>
                <a:close/>
              </a:path>
              <a:path fill="darken" w="59930" h="21600">
                <a:moveTo>
                  <a:pt x="59930" y="0"/>
                </a:moveTo>
                <a:lnTo>
                  <a:pt x="59930" y="21600"/>
                </a:lnTo>
                <a:lnTo>
                  <a:pt x="58530" y="20200"/>
                </a:lnTo>
                <a:lnTo>
                  <a:pt x="58530" y="1400"/>
                </a:lnTo>
                <a:close/>
              </a:path>
              <a:path fill="darkenLess" w="59930" h="21600">
                <a:moveTo>
                  <a:pt x="59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30" y="20200"/>
                </a:lnTo>
                <a:close/>
              </a:path>
              <a:path fill="lighten" w="59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5000" y="3619440"/>
            <a:ext cx="231840" cy="709560"/>
          </a:xfrm>
          <a:custGeom>
            <a:avLst/>
            <a:gdLst>
              <a:gd name="textAreaLeft" fmla="*/ 14760 w 231840"/>
              <a:gd name="textAreaRight" fmla="*/ 217080 w 231840"/>
              <a:gd name="textAreaTop" fmla="*/ 14760 h 709560"/>
              <a:gd name="textAreaBottom" fmla="*/ 694800 h 709560"/>
            </a:gdLst>
            <a:ahLst/>
            <a:rect l="textAreaLeft" t="textAreaTop" r="textAreaRight" b="textAreaBottom"/>
            <a:pathLst>
              <a:path w="21600" h="66039">
                <a:moveTo>
                  <a:pt x="0" y="0"/>
                </a:moveTo>
                <a:lnTo>
                  <a:pt x="21600" y="0"/>
                </a:lnTo>
                <a:lnTo>
                  <a:pt x="21600" y="66039"/>
                </a:lnTo>
                <a:lnTo>
                  <a:pt x="0" y="66039"/>
                </a:lnTo>
                <a:close/>
              </a:path>
              <a:path fill="lightenLess" w="21600" h="66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6039">
                <a:moveTo>
                  <a:pt x="21600" y="0"/>
                </a:moveTo>
                <a:lnTo>
                  <a:pt x="21600" y="66039"/>
                </a:lnTo>
                <a:lnTo>
                  <a:pt x="20200" y="64639"/>
                </a:lnTo>
                <a:lnTo>
                  <a:pt x="20200" y="1400"/>
                </a:lnTo>
                <a:close/>
              </a:path>
              <a:path fill="darkenLess" w="21600" h="66039">
                <a:moveTo>
                  <a:pt x="21600" y="66039"/>
                </a:moveTo>
                <a:lnTo>
                  <a:pt x="0" y="66039"/>
                </a:lnTo>
                <a:lnTo>
                  <a:pt x="1400" y="64639"/>
                </a:lnTo>
                <a:lnTo>
                  <a:pt x="20200" y="64639"/>
                </a:lnTo>
                <a:close/>
              </a:path>
              <a:path fill="lighten" w="21600" h="66039">
                <a:moveTo>
                  <a:pt x="0" y="66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64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3800" y="5213520"/>
            <a:ext cx="406440" cy="94428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944280"/>
              <a:gd name="textAreaBottom" fmla="*/ 918000 h 944280"/>
            </a:gdLst>
            <a:ahLst/>
            <a:rect l="textAreaLeft" t="textAreaTop" r="textAreaRight" b="textAreaBottom"/>
            <a:pathLst>
              <a:path w="21600" h="50158">
                <a:moveTo>
                  <a:pt x="0" y="0"/>
                </a:moveTo>
                <a:lnTo>
                  <a:pt x="21600" y="0"/>
                </a:lnTo>
                <a:lnTo>
                  <a:pt x="21600" y="50158"/>
                </a:lnTo>
                <a:lnTo>
                  <a:pt x="0" y="50158"/>
                </a:lnTo>
                <a:close/>
              </a:path>
              <a:path fill="lightenLess" w="21600" h="5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158">
                <a:moveTo>
                  <a:pt x="21600" y="0"/>
                </a:moveTo>
                <a:lnTo>
                  <a:pt x="21600" y="50158"/>
                </a:lnTo>
                <a:lnTo>
                  <a:pt x="20200" y="48758"/>
                </a:lnTo>
                <a:lnTo>
                  <a:pt x="20200" y="1400"/>
                </a:lnTo>
                <a:close/>
              </a:path>
              <a:path fill="darkenLess" w="21600" h="50158">
                <a:moveTo>
                  <a:pt x="21600" y="50158"/>
                </a:moveTo>
                <a:lnTo>
                  <a:pt x="0" y="50158"/>
                </a:lnTo>
                <a:lnTo>
                  <a:pt x="1400" y="48758"/>
                </a:lnTo>
                <a:lnTo>
                  <a:pt x="20200" y="48758"/>
                </a:lnTo>
                <a:close/>
              </a:path>
              <a:path fill="lighten" w="21600" h="50158">
                <a:moveTo>
                  <a:pt x="0" y="5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487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94400" y="498600"/>
            <a:ext cx="522000" cy="1773000"/>
          </a:xfrm>
          <a:custGeom>
            <a:avLst/>
            <a:gdLst>
              <a:gd name="textAreaLeft" fmla="*/ 33840 w 522000"/>
              <a:gd name="textAreaRight" fmla="*/ 488160 w 522000"/>
              <a:gd name="textAreaTop" fmla="*/ 33840 h 1773000"/>
              <a:gd name="textAreaBottom" fmla="*/ 1739160 h 1773000"/>
            </a:gdLst>
            <a:ahLst/>
            <a:rect l="textAreaLeft" t="textAreaTop" r="textAreaRight" b="textAreaBottom"/>
            <a:pathLst>
              <a:path w="21600" h="73330">
                <a:moveTo>
                  <a:pt x="0" y="0"/>
                </a:moveTo>
                <a:lnTo>
                  <a:pt x="21600" y="0"/>
                </a:lnTo>
                <a:lnTo>
                  <a:pt x="21600" y="73330"/>
                </a:lnTo>
                <a:lnTo>
                  <a:pt x="0" y="73330"/>
                </a:lnTo>
                <a:close/>
              </a:path>
              <a:path fill="lightenLess" w="21600" h="733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330">
                <a:moveTo>
                  <a:pt x="21600" y="0"/>
                </a:moveTo>
                <a:lnTo>
                  <a:pt x="21600" y="73330"/>
                </a:lnTo>
                <a:lnTo>
                  <a:pt x="20200" y="71930"/>
                </a:lnTo>
                <a:lnTo>
                  <a:pt x="20200" y="1400"/>
                </a:lnTo>
                <a:close/>
              </a:path>
              <a:path fill="darkenLess" w="21600" h="73330">
                <a:moveTo>
                  <a:pt x="21600" y="73330"/>
                </a:moveTo>
                <a:lnTo>
                  <a:pt x="0" y="73330"/>
                </a:lnTo>
                <a:lnTo>
                  <a:pt x="1400" y="71930"/>
                </a:lnTo>
                <a:lnTo>
                  <a:pt x="20200" y="71930"/>
                </a:lnTo>
                <a:close/>
              </a:path>
              <a:path fill="lighten" w="21600" h="73330">
                <a:moveTo>
                  <a:pt x="0" y="73330"/>
                </a:moveTo>
                <a:lnTo>
                  <a:pt x="0" y="0"/>
                </a:lnTo>
                <a:lnTo>
                  <a:pt x="1400" y="1400"/>
                </a:lnTo>
                <a:lnTo>
                  <a:pt x="1400" y="7193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8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German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the people of all German speak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81952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ust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Belgiu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Ice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German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Liechtenste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819520"/>
            <a:ext cx="266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Luxembou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Netherland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Norwa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Swed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Switzer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United Kingd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2286000" y="297180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2286000" y="472428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2286000" y="5105520"/>
            <a:ext cx="50328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5791320" y="4724280"/>
            <a:ext cx="301680" cy="30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2362320" y="335268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5638680" y="297180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5638680" y="33526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1"/>
          <a:stretch/>
        </p:blipFill>
        <p:spPr>
          <a:xfrm>
            <a:off x="2362320" y="3809880"/>
            <a:ext cx="371520" cy="285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2"/>
          <a:stretch/>
        </p:blipFill>
        <p:spPr>
          <a:xfrm>
            <a:off x="2362320" y="4267080"/>
            <a:ext cx="380880" cy="276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3"/>
          <a:stretch/>
        </p:blipFill>
        <p:spPr>
          <a:xfrm>
            <a:off x="5715000" y="3886200"/>
            <a:ext cx="380880" cy="276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4"/>
          <a:stretch/>
        </p:blipFill>
        <p:spPr>
          <a:xfrm>
            <a:off x="5638680" y="4267080"/>
            <a:ext cx="466920" cy="295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5"/>
          <a:stretch/>
        </p:blipFill>
        <p:spPr>
          <a:xfrm>
            <a:off x="5562720" y="5105520"/>
            <a:ext cx="571320" cy="285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22760" y="57150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German speaking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rmanic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>
            <a:hlinkClick r:id="rId1"/>
          </p:cNvPr>
          <p:cNvPicPr/>
          <p:nvPr/>
        </p:nvPicPr>
        <p:blipFill>
          <a:blip r:embed="rId2"/>
          <a:srcRect l="1056" t="6434" r="2111" b="39172"/>
          <a:stretch/>
        </p:blipFill>
        <p:spPr>
          <a:xfrm>
            <a:off x="268200" y="-1440"/>
            <a:ext cx="8875800" cy="6859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2506" t="77294" r="86242" b="21123"/>
          <a:stretch/>
        </p:blipFill>
        <p:spPr>
          <a:xfrm>
            <a:off x="5487840" y="6148440"/>
            <a:ext cx="365616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2:31:23Z</dcterms:created>
  <dc:creator>Adam Berlin</dc:creator>
  <dc:description/>
  <dc:language>en-US</dc:language>
  <cp:lastModifiedBy>nbdoe</cp:lastModifiedBy>
  <dcterms:modified xsi:type="dcterms:W3CDTF">2009-11-10T19:29:39Z</dcterms:modified>
  <cp:revision>48</cp:revision>
  <dc:subject/>
  <dc:title>Slide 1</dc:title>
</cp:coreProperties>
</file>